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DBE-6A1C-4037-8E71-47F16DB8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D61-9A67-4ED6-A884-8FF5F324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28D-E690-47EA-8FE6-4491E732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E03-0D6D-48B5-AD09-952DAF36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91BB-76CD-4E3F-8831-DC4E14D5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D3C3-DC47-40A1-B1BC-3164E138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1412-08F4-41AD-B233-18D35125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F80E-AF53-415C-A6E0-6FC5FD34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05D2-7202-4715-8C85-11ECD8F7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3BA1-911B-4A55-BDFC-5633953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1804-0FAB-4667-8435-16CFB884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49C-1C86-438C-AC82-8F06C7D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5A7D-F089-460C-9646-0D3C6C6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4779-9724-4D72-A451-8423D5EB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D02B-6B57-4B5C-9417-EA4C0F61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B267-C3FC-4005-9B85-4017936D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C699-3DF2-43EE-A6CC-7B1CC456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7B8-0DA7-461C-94F1-6F240CBE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EB8-01BC-403D-9FBE-A3E154C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B78-3A64-4540-9C23-C5175727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296-9AE2-4894-920B-BD05F46E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46C-4C5C-4839-B176-22D5A4A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6F7-7945-4C70-9372-4C59658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807-9173-4648-9943-1637EE1B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B68A-9BE5-4574-8F18-030AD44A3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ADC5-E1F2-40E0-AF70-345576A8E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899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66"/>
                </a:solidFill>
                <a:latin typeface="Arial"/>
              </a:rPr>
              <a:t>INSULINA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6000" spc="-1" strike="noStrike">
                <a:solidFill>
                  <a:srgbClr val="ffff66"/>
                </a:solidFill>
                <a:latin typeface="Arial"/>
              </a:rPr>
              <a:t>GLUCAGÓN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  y </a:t>
            </a:r>
            <a:br>
              <a:rPr sz="6000"/>
            </a:br>
            <a:br>
              <a:rPr sz="5400"/>
            </a:b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IABETES MELLIT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4869000"/>
            <a:ext cx="6408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Dr. Miguel Angel García-Garc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ofesor Titular de Fisi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01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ff66"/>
                </a:solidFill>
                <a:uFillTx/>
                <a:latin typeface="Arial Black"/>
              </a:rPr>
              <a:t>LA INSULINA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Y SUS EFECTOS METABÓLICOS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35164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La insulina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es una hormona asociada con la abundancia de energ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insulina se secreta como respuesta a la presencia de nutrientes en la sangre y permite la utilización de estos nutrientes por los tejidos para la obtención de energía y en procesos anaból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presencia de insulina aumentan las reservas de hidratos de carbono, proteínas y gra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insulina tiene efectos rápidos, intermedios y retardados sobre el metabolismo de los hidratos de carbono, las grasas y las proteí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La mayor parte de las acciones de 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la insulina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se llevan a cabo mediante </a:t>
            </a:r>
            <a:r>
              <a:rPr b="1" lang="es-ES" sz="2800" spc="-1" strike="noStrike" u="sng">
                <a:solidFill>
                  <a:srgbClr val="ffff66"/>
                </a:solidFill>
                <a:uFillTx/>
                <a:latin typeface="Arial"/>
              </a:rPr>
              <a:t>la autofosforilación de los recepto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insulina utiliza la transducción de señales por </a:t>
            </a:r>
            <a:r>
              <a:rPr b="0" i="1" lang="es-ES" sz="2800" spc="-1" strike="noStrike">
                <a:solidFill>
                  <a:srgbClr val="ffff66"/>
                </a:solidFill>
                <a:latin typeface="Arial"/>
              </a:rPr>
              <a:t>la autofosforilación de dominios intercelulares de su propio receptor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unión de la insulina a la subunidad beta del receptor desencadena la actividad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irosina cinas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subunidad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eta, lo que produce la autofosforilación de las subunidades beta sobre los restos de tirosin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 produce la fosforilación de otras proteínas y enzimas intracelulares, que intervienen en numerosas respues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57280" y="-27000"/>
            <a:ext cx="3943440" cy="474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653000"/>
            <a:ext cx="86421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Esquema de un receptor de insulina.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insulina se une a l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subunidad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l receptor, que determina la autofosforilación de l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subunidad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; ésta a su vez, induce una actividad tirosina cinas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actividad tirosina cinasa del receptor desencadena una cascada de fosforilación celular que aumenta o reduce la actividad de las enzimas mediadoras de los efectos de la glucosa sobre el metabolismo de los glúcidos, lípidos y proteín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Efectos de </a:t>
            </a: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la insulina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sobre el metabolismo de </a:t>
            </a:r>
            <a:r>
              <a:rPr b="1" i="1" lang="en-US" sz="5400" spc="-1" strike="noStrike" u="sng">
                <a:solidFill>
                  <a:srgbClr val="ffff66"/>
                </a:solidFill>
                <a:uFillTx/>
                <a:latin typeface="Arial"/>
              </a:rPr>
              <a:t>los hidratos de carbono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En el músculo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 insulina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 favorece la captación y el metabolismo de la glucos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insulina favorece facilita la difusión de la glucosa  según su gradiente de concentración desde la sangre hasta las célul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o se consigue incrementando el número 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ansportadores  de glucosa en la membrana celu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33192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66"/>
                </a:solidFill>
                <a:uFillTx/>
                <a:latin typeface="Arial"/>
              </a:rPr>
              <a:t>En el hígado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, la insulina induce la captación  y el almacenamiento de glucosa, e inhibe su produc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Aumento del flujo de glucosa al interior de las célula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inducción de glucocinasa que incrementa la fosforilación de glucosa a glucosa-6-fosfato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Aumento de la síntesis de glucógeno por activación de la glucógeno-sinta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Incremento de la síntesis de ácidos  gras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ff66"/>
                </a:solidFill>
                <a:latin typeface="Arial"/>
              </a:rPr>
              <a:t>Dirección del flujo de glucosa a través de la glucólisis por aumento de la actividad de las enzimas glucolíticas clave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iruvato cinasa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ff66"/>
                </a:solidFill>
                <a:latin typeface="Arial"/>
              </a:rPr>
              <a:t>Disminución de las salidas hepáticas de glucosa de varias forma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insulina entorpece 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glucogenólisi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diante la inhibición de 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glucógeno fosforila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la insulina inhibe 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glucosa -6-fosfota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la insulina inhible 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gluconeogénesi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minuyendo la captación de aminoácidos al interior del hígado y reduciendo la actividad o las concentraciones de las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nzimas gluconeogénicas  cla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66"/>
                </a:solidFill>
                <a:uFillTx/>
                <a:latin typeface="Arial"/>
              </a:rPr>
              <a:t>En el tejido adiposo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, la insulina facilita la entrada de glucosa en las célul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La insulina tiene un efecto reducido sobre la captación y  utilización de glucosa por </a:t>
            </a:r>
            <a:r>
              <a:rPr b="1" i="1" lang="es-ES" sz="2800" spc="-1" strike="noStrike" u="sng">
                <a:solidFill>
                  <a:srgbClr val="ffff66"/>
                </a:solidFill>
                <a:uFillTx/>
                <a:latin typeface="Arial"/>
              </a:rPr>
              <a:t>el cerebro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Las células cerebrales son bastante permeables a la glucosa y dependen de este sustrato para la obtención de energía, es esencial que la concentración de glucosa sanguínea se mantenga en las concentraciones norm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glucosa=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Shock hipoglucém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Efectos de </a:t>
            </a: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la insulina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sobre el metabolismo </a:t>
            </a:r>
            <a:r>
              <a:rPr b="1" i="1" lang="en-US" sz="5400" spc="-1" strike="noStrike" u="sng">
                <a:solidFill>
                  <a:srgbClr val="ffff66"/>
                </a:solidFill>
                <a:uFillTx/>
                <a:latin typeface="Arial"/>
              </a:rPr>
              <a:t>de las gras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17040"/>
            <a:ext cx="8377200" cy="58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l Páncre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más de sus funciones digestivas, secreta dos hormonas esenciales </a:t>
            </a:r>
            <a:r>
              <a:rPr b="1" i="1" lang="es-ES" sz="4000" spc="-1" strike="noStrike">
                <a:solidFill>
                  <a:srgbClr val="ffff66"/>
                </a:solidFill>
                <a:latin typeface="Arial"/>
              </a:rPr>
              <a:t>La Insulina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s-ES" sz="4000" spc="-1" strike="noStrike">
                <a:solidFill>
                  <a:srgbClr val="ffff66"/>
                </a:solidFill>
                <a:latin typeface="Arial"/>
              </a:rPr>
              <a:t>el Glucagón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a regulación del metabolismo de la glucosa, los lípidos y las proteí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creta otras hormonas, como </a:t>
            </a:r>
            <a:r>
              <a:rPr b="0" i="1" lang="es-ES" sz="3200" spc="-1" strike="noStrike">
                <a:solidFill>
                  <a:srgbClr val="ffff66"/>
                </a:solidFill>
                <a:latin typeface="Arial"/>
              </a:rPr>
              <a:t>la amilina, la somatostatina y el polipéptido pancreátic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s funciones se conocen po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En el tejido adiposo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, la insulina favorece el almacenamiento de los ácidos grasos e inhibe su movilizació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insulina inhibe la acción de la lipasa sensible a las hormonas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insulina aumenta el transporte de la glucos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insulina induce la lipoproteína lipas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47736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En el hígado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, la insulina induce la síntesis de los ácidos grasos e inhibe su oxidació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La insulina induce la síntesis de ácidos grasos en el hígado a partir de gluco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Debido a la mayor disponibilidad de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glicerol fosfato procedente de la glucólisis, los ácidos grasos se esterifican para formar triglicéri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oxidación de los ác grasos se reduce por el aumento de la conversión de acetilCoA en malonil-CoA por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acetil-CoA carboxila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malonil-CoA inhibe la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arnitina aciltransferasa,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ponsable de la transferencia de ácidos grasos desde el citoplasma a las mitocondrias para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betaoxidación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u conversión en </a:t>
            </a:r>
            <a:r>
              <a:rPr b="0" i="1" lang="es-ES" sz="3200" spc="-1" strike="noStrike">
                <a:solidFill>
                  <a:srgbClr val="99ff66"/>
                </a:solidFill>
                <a:latin typeface="Arial"/>
              </a:rPr>
              <a:t>cetoáci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“la insulina es anticetogéni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Efectos de </a:t>
            </a: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la insulina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sobre el metabolismo de </a:t>
            </a:r>
            <a:r>
              <a:rPr b="1" i="1" lang="en-US" sz="5400" spc="-1" strike="noStrike" u="sng">
                <a:solidFill>
                  <a:srgbClr val="ffff66"/>
                </a:solidFill>
                <a:uFillTx/>
                <a:latin typeface="Arial"/>
              </a:rPr>
              <a:t>las proteína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4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La insuli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un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hormona anaból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Incrementa la incorporación de varios aminoácidos desde la sangre a las célu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Induce la síntesis de proteínas  al estimular la transcripción génica y la traducción del ARNm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Inhibe el catabolismo de las proteínas, disminuyendo la liberación de aminoácidos del múscul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Es esencial para el crecimiento. </a:t>
            </a:r>
            <a:r>
              <a:rPr b="0" lang="es-ES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215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Arial"/>
              </a:rPr>
              <a:t>CONTROL DE LA SECRECIÓN DE </a:t>
            </a:r>
            <a:r>
              <a:rPr b="1" i="1" lang="en-US" sz="3600" spc="-1" strike="noStrike">
                <a:solidFill>
                  <a:srgbClr val="99ff66"/>
                </a:solidFill>
                <a:latin typeface="Arial"/>
              </a:rPr>
              <a:t>INSULINA</a:t>
            </a:r>
            <a:r>
              <a:rPr b="1" i="1" lang="en-US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La glucosa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es el controlador más importante de la secreción d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insulina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efecto de </a:t>
            </a:r>
            <a:r>
              <a:rPr b="1" i="1" lang="en-US" sz="2800" spc="-1" strike="noStrike" u="sng">
                <a:solidFill>
                  <a:srgbClr val="99ff66"/>
                </a:solidFill>
                <a:uFillTx/>
                <a:latin typeface="Arial"/>
              </a:rPr>
              <a:t>retroacción de la glucosa sanguínea sobre las células beta del páncrea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0" i="1" lang="en-US" sz="2800" spc="-1" strike="noStrike">
                <a:solidFill>
                  <a:srgbClr val="99ff66"/>
                </a:solidFill>
                <a:latin typeface="Arial"/>
              </a:rPr>
              <a:t>la glucemia aumenta de forma repenti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ambién lo hace la secreción de insuli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Como resultado de los efectos posteriores de la insulina  para estimular la captación de glucosa por el hígado y los tejidos periféricos, </a:t>
            </a:r>
            <a:r>
              <a:rPr b="0" i="1" lang="en-US" sz="2800" spc="-1" strike="noStrike">
                <a:solidFill>
                  <a:srgbClr val="99ff66"/>
                </a:solidFill>
                <a:latin typeface="Arial"/>
              </a:rPr>
              <a:t>la glucemia vuelve a valores nor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1671"/>
          <a:stretch/>
        </p:blipFill>
        <p:spPr>
          <a:xfrm>
            <a:off x="1979640" y="-27000"/>
            <a:ext cx="5329080" cy="5079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5157720"/>
            <a:ext cx="828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Homeostásis de la GLUCOSA SANGUÍNEA.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aumento de la concentración sanguínea de glucosa estimula la secreción de insul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insulina da lugar a la disminución de la glucosa en sangre al estimular la captación celular de glucosa y la conversión de la glucosa en glucógeno y gr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Muchos otros estímulos, además de 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la hiperglucemia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, incrementan la secreción de 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insulina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1" i="1" lang="es-ES" sz="2800" spc="-1" strike="noStrike" u="sng">
                <a:solidFill>
                  <a:srgbClr val="ffff66"/>
                </a:solidFill>
                <a:uFillTx/>
                <a:latin typeface="Arial"/>
              </a:rPr>
              <a:t>Los aminoácidos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arginina, lisina, leucina, alanina; tienen efecto sinérgico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1" i="1" lang="es-ES" sz="2800" spc="-1" strike="noStrike" u="sng">
                <a:solidFill>
                  <a:srgbClr val="ffff66"/>
                </a:solidFill>
                <a:uFillTx/>
                <a:latin typeface="Arial"/>
              </a:rPr>
              <a:t>Las hormonas gastrointestinales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: polipéptido inhibidor gástrico, polipéptido I semejante al glucag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1" i="1" lang="es-ES" sz="2800" spc="-1" strike="noStrike" u="sng">
                <a:solidFill>
                  <a:srgbClr val="ffff66"/>
                </a:solidFill>
                <a:uFillTx/>
                <a:latin typeface="Arial"/>
              </a:rPr>
              <a:t>Otras hormonas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: el cortisol, la H del crecim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hormonas  aumentan la secreción de insulina porque se oponen a los efectos de la insulina sobre la captación de glucosa en los tejidos periféricos, lo que conduce a una glucemia may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66"/>
                </a:solidFill>
                <a:uFillTx/>
                <a:latin typeface="Arial"/>
              </a:rPr>
              <a:t>EL GLUCAGÓN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Y SUS FUNCI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01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QUÍMICA, SÍNTESIS Y METABOLISMO DE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LAS HORMONAS PANCREÁTICA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6662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La mayor parte de la actividad del 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glucagón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se lleva a cabo mediante </a:t>
            </a:r>
            <a:r>
              <a:rPr b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la activación de la adenil cicla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Los efectos primarios del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glucag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producen en el hígado y son opuestos a los de la insuli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La unión del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glucagón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receptores hepáticos produce la activación  de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adenil ciclasa y la generación del segundo mensajero AMP cíclico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a su vez activ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proteína cinasa 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 conduce a las fosforilaciones que desembocan en la activación o desactivación de varias enz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Arial"/>
              </a:rPr>
              <a:t>El glucagón produce *</a:t>
            </a:r>
            <a:r>
              <a:rPr b="1" i="1" lang="es-ES" sz="3600" spc="-1" strike="noStrike" u="sng">
                <a:solidFill>
                  <a:srgbClr val="ffff66"/>
                </a:solidFill>
                <a:uFillTx/>
                <a:latin typeface="Arial"/>
              </a:rPr>
              <a:t>hiperglucemia</a:t>
            </a:r>
            <a:r>
              <a:rPr b="1" lang="es-ES" sz="3600" spc="-1" strike="noStrike">
                <a:solidFill>
                  <a:srgbClr val="ffff66"/>
                </a:solidFill>
                <a:latin typeface="Arial"/>
              </a:rPr>
              <a:t> de diversas forma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215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Estimula la glucogenólisi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ene efectos inmediatos sobre el hígado para incrementar la glucogenólisis y la liberación de la glucosa en la sang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*Inhibe la glucólisi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la fosfofructocinasa y la piruvato cinas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lo tanto, los niveles de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lucosa-6-fosfat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enden a elevarse, lo que conduce a una mayor liberación de glucosa por el híga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4502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s-ES" sz="3600" spc="-1" strike="noStrike">
                <a:solidFill>
                  <a:srgbClr val="ffff66"/>
                </a:solidFill>
                <a:latin typeface="Arial"/>
              </a:rPr>
              <a:t>*Estimula la gluconeogénesis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aumenta la extracción hepática de aminoácidos del plasma e incrementa la actividad  de </a:t>
            </a: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las enzimas gluconeogénicas (piruvato carboxilasa, fructuosa 1,6-difosfatasa)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favorece liberación de glucos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215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Arial"/>
              </a:rPr>
              <a:t>El glucagón</a:t>
            </a:r>
            <a:r>
              <a:rPr b="1" lang="es-ES" sz="3600" spc="-1" strike="noStrike">
                <a:solidFill>
                  <a:srgbClr val="ffff66"/>
                </a:solidFill>
                <a:latin typeface="Arial"/>
              </a:rPr>
              <a:t> es cetogénic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el glucagón inhibe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acetil-CoA carboxilas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y una disminución de la producción  de malonil-CoA, un inhibidor de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carnitina aciltransfera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ello,  los ácidos grasos se dirigen al interior de las mitocondrias para l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betaoxidación y la cetogéne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4502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ff66"/>
                </a:solidFill>
                <a:latin typeface="Arial"/>
              </a:rPr>
              <a:t>CONTROL DE LA SECRECIÓN DE </a:t>
            </a:r>
            <a:r>
              <a:rPr b="1" i="1" lang="es-ES" sz="3600" spc="-1" strike="noStrike">
                <a:solidFill>
                  <a:srgbClr val="99ff66"/>
                </a:solidFill>
                <a:latin typeface="Arial"/>
              </a:rPr>
              <a:t>GLUCAGÓN</a:t>
            </a:r>
            <a:r>
              <a:rPr b="1" lang="es-ES" sz="36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66"/>
                </a:solidFill>
                <a:uFillTx/>
                <a:latin typeface="Arial"/>
              </a:rPr>
              <a:t>La glucosa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es el controlador más importante de la secreción de 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glucag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*La hipoglucemi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ument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a secrec de glucagón; la acción hiperglucémica de este último devuelve la glucemia a sus valores norm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*La hiperglucemi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secrec de glucagó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desciend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i="1" lang="es-ES" sz="2400" spc="-1" strike="noStrike">
                <a:solidFill>
                  <a:srgbClr val="99ff66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ffff66"/>
                </a:solidFill>
                <a:latin typeface="Arial"/>
              </a:rPr>
              <a:t>El glucagón y la insulina</a:t>
            </a:r>
            <a:r>
              <a:rPr b="0" i="1" lang="es-ES" sz="2400" spc="-1" strike="noStrike">
                <a:solidFill>
                  <a:srgbClr val="99ff66"/>
                </a:solidFill>
                <a:latin typeface="Arial"/>
              </a:rPr>
              <a:t> constituyen mecanisnos importantes, aunque opuestos, para regular la concentración de glucosa en sangr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450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ff66"/>
                </a:solidFill>
                <a:uFillTx/>
                <a:latin typeface="Arial"/>
              </a:rPr>
              <a:t>Los aminoácidos</a:t>
            </a:r>
            <a:r>
              <a:rPr b="1" lang="es-ES" sz="3600" spc="-1" strike="noStrike">
                <a:solidFill>
                  <a:srgbClr val="ffff66"/>
                </a:solidFill>
                <a:latin typeface="Arial"/>
              </a:rPr>
              <a:t>, especialmente </a:t>
            </a:r>
            <a:r>
              <a:rPr b="1" i="1" lang="es-ES" sz="3600" spc="-1" strike="noStrike">
                <a:solidFill>
                  <a:srgbClr val="ffff66"/>
                </a:solidFill>
                <a:latin typeface="Arial"/>
              </a:rPr>
              <a:t>la arginina y la alanina, </a:t>
            </a:r>
            <a:r>
              <a:rPr b="1" lang="es-ES" sz="3600" spc="-1" strike="noStrike">
                <a:solidFill>
                  <a:srgbClr val="ffff66"/>
                </a:solidFill>
                <a:latin typeface="Arial"/>
              </a:rPr>
              <a:t>estimulan la secreción de </a:t>
            </a:r>
            <a:r>
              <a:rPr b="1" i="1" lang="es-ES" sz="3600" spc="-1" strike="noStrike">
                <a:solidFill>
                  <a:srgbClr val="ffff66"/>
                </a:solidFill>
                <a:latin typeface="Arial"/>
              </a:rPr>
              <a:t>glucagón</a:t>
            </a:r>
            <a:r>
              <a:rPr b="1" lang="es-ES" sz="36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respuesta del </a:t>
            </a:r>
            <a:r>
              <a:rPr b="0" i="1" lang="es-ES" sz="3600" spc="-1" strike="noStrike">
                <a:solidFill>
                  <a:srgbClr val="ffff66"/>
                </a:solidFill>
                <a:latin typeface="Arial"/>
              </a:rPr>
              <a:t>glucagó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a una comida con abundantes proteínas es importante, porque sin sus efectos hiperglucémicos, </a:t>
            </a:r>
            <a:r>
              <a:rPr b="0" i="1" lang="es-ES" sz="3600" spc="-1" strike="noStrike">
                <a:solidFill>
                  <a:srgbClr val="99ff66"/>
                </a:solidFill>
                <a:latin typeface="Arial"/>
              </a:rPr>
              <a:t>la mayor secreción de insulina produciría </a:t>
            </a:r>
            <a:r>
              <a:rPr b="1" i="1" lang="es-ES" sz="3600" spc="-1" strike="noStrike">
                <a:solidFill>
                  <a:srgbClr val="99ff66"/>
                </a:solidFill>
                <a:latin typeface="Arial"/>
              </a:rPr>
              <a:t>hipoglucem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89040"/>
            <a:ext cx="84247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El ayuno y el ejercicio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stimulan la secreción de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glucag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estas circunstancias, </a:t>
            </a:r>
            <a:r>
              <a:rPr b="0" i="1" lang="en-US" sz="3200" spc="-1" strike="noStrike">
                <a:solidFill>
                  <a:srgbClr val="99ff66"/>
                </a:solidFill>
                <a:latin typeface="Arial"/>
              </a:rPr>
              <a:t>el estímulo de la secreción de glucagó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ye a impedir grandes descensos de la concentración de la glucosa sanguíne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secreción 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lucag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ede estar mediada por el estímulo del sistema nervioso simpá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2865" t="6761" r="0" b="10909"/>
          <a:stretch/>
        </p:blipFill>
        <p:spPr>
          <a:xfrm>
            <a:off x="1547640" y="-27000"/>
            <a:ext cx="5616720" cy="496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5060880"/>
            <a:ext cx="86421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Verdana"/>
              </a:rPr>
              <a:t>Efecto de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Verdana"/>
              </a:rPr>
              <a:t>la toma de alimento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</a:rPr>
              <a:t> y del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Verdana"/>
              </a:rPr>
              <a:t>ayuno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</a:rPr>
              <a:t> sobre el metabolismo</a:t>
            </a:r>
            <a:r>
              <a:rPr b="1" i="1" lang="es-ES" sz="1600" spc="-1" strike="noStrike">
                <a:solidFill>
                  <a:srgbClr val="ff0000"/>
                </a:solidFill>
                <a:latin typeface="Verdana"/>
              </a:rPr>
              <a:t>.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La toma de alimentos (absorción de una comida)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inclina el equilibrio metabólico haci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el anabolism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mientras que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el ayun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lo hace haci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el catabolism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cc"/>
                </a:solidFill>
                <a:latin typeface="Verdana"/>
              </a:rPr>
              <a:t>Esto sucede debido a una relación inversa entre la secreción de </a:t>
            </a:r>
            <a:r>
              <a:rPr b="1" lang="es-ES" sz="1600" spc="-1" strike="noStrike">
                <a:solidFill>
                  <a:srgbClr val="0000cc"/>
                </a:solidFill>
                <a:latin typeface="Verdana"/>
              </a:rPr>
              <a:t>insulina</a:t>
            </a:r>
            <a:r>
              <a:rPr b="0" lang="es-ES" sz="1600" spc="-1" strike="noStrike">
                <a:solidFill>
                  <a:srgbClr val="0000cc"/>
                </a:solidFill>
                <a:latin typeface="Verdana"/>
              </a:rPr>
              <a:t> y de </a:t>
            </a:r>
            <a:r>
              <a:rPr b="1" lang="es-ES" sz="1600" spc="-1" strike="noStrike">
                <a:solidFill>
                  <a:srgbClr val="0000cc"/>
                </a:solidFill>
                <a:latin typeface="Verdana"/>
              </a:rPr>
              <a:t>glucag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  La secreción de insulina se eleva y la de glucagón disminuye durante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la absorción de los alimento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, mientras que durante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el ayun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sucede lo contrar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36640" y="-27000"/>
            <a:ext cx="5427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2156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66"/>
                </a:solidFill>
                <a:uFillTx/>
                <a:latin typeface="Arial"/>
              </a:rPr>
              <a:t>La insulina</a:t>
            </a:r>
            <a:r>
              <a:rPr b="1" i="1" lang="es-ES" sz="4000" spc="-1" strike="noStrike">
                <a:solidFill>
                  <a:srgbClr val="ffff66"/>
                </a:solidFill>
                <a:latin typeface="Arial"/>
              </a:rPr>
              <a:t> y </a:t>
            </a:r>
            <a:r>
              <a:rPr b="1" i="1" lang="es-ES" sz="4000" spc="-1" strike="noStrike" u="sng">
                <a:solidFill>
                  <a:srgbClr val="ffff66"/>
                </a:solidFill>
                <a:uFillTx/>
                <a:latin typeface="Arial"/>
              </a:rPr>
              <a:t>el glucagón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se sintetizan en los islotes de Langerha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Páncre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 tipos teji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Los acinos,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cretan jugos digestivos al duodeno a través del conducto pancreático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función exocrina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ff66"/>
                </a:solidFill>
                <a:latin typeface="Arial"/>
              </a:rPr>
              <a:t>2. </a:t>
            </a:r>
            <a:r>
              <a:rPr b="1" i="1" lang="es-ES" sz="32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Los islotes de Langerhan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e descargan sus secreciones a la sangre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función endocri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1847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2156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66"/>
                </a:solidFill>
                <a:uFillTx/>
                <a:latin typeface="Arial"/>
              </a:rPr>
              <a:t>LA SOMATOSTATINA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INHIBE LA SECRECIÓN DE 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GLUCAGÓN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Y DE 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INSULINA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s-ES" sz="2800" spc="-1" strike="noStrike">
                <a:solidFill>
                  <a:srgbClr val="ffff66"/>
                </a:solidFill>
                <a:latin typeface="Arial"/>
              </a:rPr>
              <a:t>*La somatostatin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sintetiza 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élulas del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del páncreas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sí como en el tubo digestivo y en el hipotálam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La secreción de somatostatina pancreática está estimulada por factores relacionados con </a:t>
            </a: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la ingestión de aliment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 como unas mayores concentraciones sanguíneas de glucosa, aminoácidos y ácidos graso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diversas hormonas gastrointesti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El metabolismo de los hidratos de carbono, las grasas y las proteínas se ve alterado debido a </a:t>
            </a: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la deficiente respuesta a la insuli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Hay dos form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b7"/>
                </a:solidFill>
                <a:uFillTx/>
                <a:latin typeface="Arial"/>
              </a:rPr>
              <a:t>Diabetes de tipo I</a:t>
            </a:r>
            <a:r>
              <a:rPr b="0" i="1" lang="es-ES" sz="2800" spc="-1" strike="noStrike">
                <a:solidFill>
                  <a:srgbClr val="ffffb7"/>
                </a:solidFill>
                <a:latin typeface="Arial"/>
              </a:rPr>
              <a:t>  (  Diabetes Mellitus insulinodependiente </a:t>
            </a:r>
            <a:r>
              <a:rPr b="1" i="1" lang="es-ES" sz="2800" spc="-1" strike="noStrike">
                <a:solidFill>
                  <a:srgbClr val="ffffb7"/>
                </a:solidFill>
                <a:latin typeface="Arial"/>
              </a:rPr>
              <a:t>DMID </a:t>
            </a:r>
            <a:r>
              <a:rPr b="0" i="1" lang="es-ES" sz="2800" spc="-1" strike="noStrike">
                <a:solidFill>
                  <a:srgbClr val="ffffb7"/>
                </a:solidFill>
                <a:latin typeface="Arial"/>
              </a:rPr>
              <a:t>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</a:t>
            </a:r>
            <a:r>
              <a:rPr b="0" i="1" lang="es-ES" sz="2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alta de secreción de insuli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b7"/>
                </a:solidFill>
                <a:latin typeface="Arial"/>
              </a:rPr>
              <a:t>- </a:t>
            </a:r>
            <a:r>
              <a:rPr b="1" i="1" lang="es-ES" sz="2800" spc="-1" strike="noStrike" u="sng">
                <a:solidFill>
                  <a:srgbClr val="ffffb7"/>
                </a:solidFill>
                <a:uFillTx/>
                <a:latin typeface="Arial"/>
              </a:rPr>
              <a:t>Diabetes de tipo II</a:t>
            </a:r>
            <a:r>
              <a:rPr b="1" i="1" lang="es-ES" sz="2800" spc="-1" strike="noStrike">
                <a:solidFill>
                  <a:srgbClr val="ffffb7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b7"/>
                </a:solidFill>
                <a:latin typeface="Arial"/>
              </a:rPr>
              <a:t>( Diabetes Mellitus no insulinodependiente </a:t>
            </a:r>
            <a:r>
              <a:rPr b="1" i="1" lang="es-ES" sz="2800" spc="-1" strike="noStrike">
                <a:solidFill>
                  <a:srgbClr val="ffffb7"/>
                </a:solidFill>
                <a:latin typeface="Arial"/>
              </a:rPr>
              <a:t>DMNID </a:t>
            </a:r>
            <a:r>
              <a:rPr b="0" i="1" lang="es-ES" sz="2800" spc="-1" strike="noStrike">
                <a:solidFill>
                  <a:srgbClr val="ffffb7"/>
                </a:solidFill>
                <a:latin typeface="Arial"/>
              </a:rPr>
              <a:t>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ducida por la resistencia de los tejidos diana a los efectos metabólicos de la insul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59464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66"/>
                </a:solidFill>
                <a:uFillTx/>
                <a:latin typeface="Arial"/>
              </a:rPr>
              <a:t>La diabetes de tipo I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está producida por la falta de secreción de insulina por las células beta del páncr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Es el resultado de la destrucción autoinmunitaria de las células be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También puede producirse por la pérdida de estas células debida a infecciones ví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Suele aparecer en la infancia: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iabetes Juven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215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La mayoría de las características fisiopatológicas pueden atribuirse a los siguientes efectos de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falta de insulin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66"/>
                </a:solidFill>
                <a:latin typeface="Arial"/>
              </a:rPr>
              <a:t>Hiperglucemi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resultado de la alteración de la captación de glucosa por los tejidos y el aumento de la producción de glucosa en el hígado (mayor gluconeogénesi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66"/>
                </a:solidFill>
                <a:latin typeface="Arial"/>
              </a:rPr>
              <a:t>Disminución de las proteín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bida a un descenso en su síntesis y a un mayor catabo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502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o resultado de estas alteraciones fundamentales, se producen los siguientes efect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Glucosuria, diuresis osmótica, hipovolemia e hipoten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Hiperosmolalidad sanguínea, deshidratación y polidips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Hiperfagia pero pérdida de peso: falta de ener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Acidosis que deriva hacia el coma diabético: respiración rápida y profun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66"/>
                </a:solidFill>
                <a:latin typeface="Arial"/>
              </a:rPr>
              <a:t>Hipercolesterolemia y enfermedad vascular ateroscleró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contrast="12000"/>
          </a:blip>
          <a:srcRect l="3581" t="0" r="4625" b="6167"/>
          <a:stretch/>
        </p:blipFill>
        <p:spPr>
          <a:xfrm>
            <a:off x="0" y="44280"/>
            <a:ext cx="9144000" cy="5301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8360" y="5516640"/>
            <a:ext cx="842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onsecuencias de la carencia no corregida de insulina en la diabetes mellitus tipo 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esta secuencia de acontecimientos, la carencia de insulina puede conducir al coma y a la muer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5028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La Diabetes Tipo II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oducida por  la resistencia a los efectos de la insu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Es mucho más común que la de Tipo I y está generalmente asociada con la obesida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Se caracteriza por la incapacidad de los tejidos diana para responder a los efectos metabólicos de la insulina </a:t>
            </a:r>
            <a:r>
              <a:rPr b="0" i="1" lang="en-US" sz="3600" spc="-1" strike="noStrike">
                <a:solidFill>
                  <a:srgbClr val="99ff66"/>
                </a:solidFill>
                <a:latin typeface="Arial"/>
              </a:rPr>
              <a:t>(resistencia a la insulin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215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La morfología de las células beta del páncreas es normal durante la mayor parte de la enfermedad, y hay una elevada tasa de secreción de insulin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Se presenta generalmente en personas mayores: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betes del adulto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502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Aunque la hiperglucemia es una característica fundamental, generalmente no se producen ni lipólisis acelerada ni cetogénes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a restricción calórica y la reducción de pes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ejoran la resistencia a la insulina  en los tejidos diana, pero en los últimos estados de la enfermedad, cuando se altera la secreción de insulina, es necesaria su adminis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44280"/>
            <a:ext cx="8351640" cy="5697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55640" y="60102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El Páncreas y sus islotes de Langerhans. </a:t>
            </a:r>
            <a:r>
              <a:rPr b="0" i="1" lang="es-ES" sz="1800" spc="-1" strike="noStrike">
                <a:solidFill>
                  <a:srgbClr val="0000cc"/>
                </a:solidFill>
                <a:latin typeface="Verdana"/>
              </a:rPr>
              <a:t>Las células alfa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gregan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LUCAGÓN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s-ES" sz="1800" spc="-1" strike="noStrike">
                <a:solidFill>
                  <a:srgbClr val="0000cc"/>
                </a:solidFill>
                <a:latin typeface="Verdana"/>
              </a:rPr>
              <a:t>las células beta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gregan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INSUL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1268280"/>
            <a:ext cx="9144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6480"/>
          <a:ext cx="9144000" cy="6878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914400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43640" y="60055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GRACI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547560"/>
            <a:ext cx="84502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 especie humana existen entre 1 y 2 millones de islotes de Langerhans, que contienen 4 tipos de célul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élulas be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tituyen aprox el 60% y secretan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insulina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élulas alf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representan aprox el 25% y son la fuente de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glucag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élulas delt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gregan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somatostat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élulas PP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cretan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polipéptido pancreátic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-27000"/>
            <a:ext cx="8136000" cy="5651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587700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Anatomía fisiológica de </a:t>
            </a:r>
            <a:r>
              <a:rPr b="1" i="1" lang="es-ES" sz="2000" spc="-1" strike="noStrike">
                <a:solidFill>
                  <a:srgbClr val="ff0000"/>
                </a:solidFill>
                <a:latin typeface="Verdana"/>
              </a:rPr>
              <a:t>un islote pancreático de Langerh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3516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Arial"/>
              </a:rPr>
              <a:t>La Insulina y el Glucagón</a:t>
            </a:r>
            <a:r>
              <a:rPr b="1" i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ff66"/>
                </a:solidFill>
                <a:latin typeface="Arial"/>
              </a:rPr>
              <a:t>se sintetizan y metabolizan como la mayoría de las hormonas peptídica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sintetizan como grandes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reprohormon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el aparato de Golgi,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rohormona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mpaquetan en gránulos y después se escinden en hormonas libres más fragmentos peptíd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el caso de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s cel bet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liberan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insulin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 péptido C o péptido conector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que une las 2 cadenas peptídicas de la insulina) en la sangre circulante en cantidades equimola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La insulin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un polipéptido que contiene dos cadenas de 21 y 30 aminoácidos, unidas por puentes disulfur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El glucagón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una cadena lineal de 29 aminoác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nto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la insuli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mo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el glucag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irculan sin unirse a proteínas transportador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tienen una corta semivida entre 5 y 10 minu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prox el 50% de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la insuli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el glucag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la vena port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se metaboliza a su paso por el híg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; la mayor parte de hormona restante se metaboliza en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os riñ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9:38:55Z</dcterms:created>
  <dc:creator>DR. MIGUEL A. GARCÌA GARCÌA</dc:creator>
  <dc:description/>
  <dc:language>en-US</dc:language>
  <cp:lastModifiedBy>Sojuel Icaj</cp:lastModifiedBy>
  <dcterms:modified xsi:type="dcterms:W3CDTF">2008-10-06T03:45:54Z</dcterms:modified>
  <cp:revision>100</cp:revision>
  <dc:subject/>
  <dc:title>INSULINA Y GLUCAGÒN</dc:title>
</cp:coreProperties>
</file>