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F36F-795A-4DA8-9615-E23136F9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3EF-0F95-49D8-8653-E65C7880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C6A-3C8B-4D09-B2D9-E597FE07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B62-8451-44D6-BBA7-1F201358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853F-E38F-4260-A295-CADAA7D9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1619-FDC8-49B3-891F-A1C03B64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D09C-7220-4674-9E32-A6C476A4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5F94-E737-4962-8E9D-BA14A839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B2AF-9041-45B5-BFA5-2B659448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BDEB-4A93-42E0-B93D-0111019D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0078-66A9-44FF-A726-19265E2C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421-0E18-4D16-933E-E7E70747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FD7A-97EB-4C8F-937C-7A430C1F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6814-FCB6-403C-8189-B30C860F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5624-5500-4631-8FB6-F5A44362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0656-7001-4BA8-9368-A54D4845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C921-1001-4511-B122-3DDDD214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65F01-F1FA-4483-9362-7702D6AA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229B4-32CF-4CB5-879F-EAC870CB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3D20C-66F7-4080-A64E-C6A7F4AA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81D1B-C2EA-4C6F-9D38-E7167BB5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8ED25-DA1A-44C6-BD1C-3DC3A2EA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6FF-DDCA-4844-A597-E928F7F8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29521-7B9E-4C05-ACC2-8B9D93FE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7AB5E-10CF-4845-8FEA-DA62E9EA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BE7A4-3887-4E00-BE08-7B379F0C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232B5-8444-4382-8DFA-EFB6EFDD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51DA6-0B82-4134-9827-D5594DEC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5CB9F-AFC2-4063-9190-1A1F90FD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90EB-1B79-40C3-B7FB-F19B758C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150-075B-4089-A177-1292DD1B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39D4-D315-49F3-B07C-0E857088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63C-135E-488F-B772-4116C15C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392-5AE2-43A3-B8BB-F6463D68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D15-52F2-465F-9F34-13C43DFE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84C-ACD7-4F61-B930-504C5A4B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BD40-3EF3-4C51-A5D6-65D20168DDE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22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3481-A9CD-49AD-B6DB-A4448D92961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9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0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1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3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5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5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FCDA-7A9C-46D2-A9AD-4C332EF1266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ff99"/>
                </a:solidFill>
                <a:latin typeface="Arial"/>
              </a:rPr>
              <a:t>FLUJO SANGUINEO CEREBRAL</a:t>
            </a:r>
            <a:r>
              <a:rPr b="1" lang="es-ES" sz="4000" spc="-1" strike="noStrike">
                <a:solidFill>
                  <a:srgbClr val="ccecff"/>
                </a:solidFill>
                <a:latin typeface="Arial"/>
              </a:rPr>
              <a:t>, 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99ff99"/>
                </a:solidFill>
                <a:latin typeface="Arial"/>
              </a:rPr>
              <a:t>LCR</a:t>
            </a:r>
            <a:r>
              <a:rPr b="1" lang="es-ES" sz="4000" spc="-1" strike="noStrike">
                <a:solidFill>
                  <a:srgbClr val="ccecff"/>
                </a:solidFill>
                <a:latin typeface="Arial"/>
              </a:rPr>
              <a:t> y </a:t>
            </a:r>
            <a:r>
              <a:rPr b="1" lang="es-ES" sz="4000" spc="-1" strike="noStrike">
                <a:solidFill>
                  <a:srgbClr val="99ff99"/>
                </a:solidFill>
                <a:latin typeface="Arial"/>
              </a:rPr>
              <a:t>METABOLISMO CEREBR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619280" y="4508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Dr. Miguel Ángel García García</a:t>
            </a: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fesor Titular VI Área de Fisi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e1ff"/>
                </a:solidFill>
                <a:latin typeface="Arial"/>
              </a:rPr>
              <a:t>FUNCIÓN DEL SISTEMA NERVIOSO SIMPÁTICO EN EL CONTROL DEL FLUJO SANGUÍNEO CEREBRA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445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imulación simpática puede ocasionar una fuerte constricción de las arterias cerebr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urante el curso de un ejercicio vigoroso o situación similares, los impulsos simpáticos pueden constreñir las arterias grandes e intermedias, e impedir que la presión elevada llegue a los vasos sanguíneos más pequeñ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i="1" lang="es-ES" sz="2800" spc="-1" strike="noStrike" u="sng">
                <a:solidFill>
                  <a:srgbClr val="afe1ff"/>
                </a:solidFill>
                <a:uFillTx/>
                <a:latin typeface="Arial"/>
              </a:rPr>
              <a:t>Este mecanismo es importante para impedir la hemorragia vascular  o  ictus cerebral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e1ff"/>
                </a:solidFill>
                <a:latin typeface="Arial"/>
              </a:rPr>
              <a:t>El “ICTUS” CEREBRAL aparece cuando se obstruyen los vasos sanguíneos cerebra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mayoría de los ACV se producen por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s placas  arteriosclerótica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se forman en una o mas de las grandes arterias cerebr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placa inicia un mecanismo de coagulación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 forme un coágulo y bloquee la arteria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érdida de funciones en las áreas cerebrales irrigadas por el vas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erca de ¼ parte de las personas que sufren un ACV sucede por la rotura de un vaso sang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HTA</a:t>
            </a:r>
            <a:r>
              <a:rPr b="1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hemorragia resultante comprime los tejidos cerebrales y produce edema e isquemia cereb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efectos neurológicos de una ACV vienen determinados por el área afectad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se bloque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a arteria cerebral med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el hemisferio dominante, la persona quedará en una situación de dependencia total, debido a la pérdida del área de Wernicke implicada en la comprensión del lengua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ambién suelen perder la capacidad para hablar (área motora de Broca), parálisis espástica de los músculos del lado opuesto del cuerp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fe1ff"/>
                </a:solidFill>
                <a:latin typeface="Arial"/>
              </a:rPr>
              <a:t>Microcirculación cerebra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densidad de capilares en la sustancia gris del cerebro es cuatro veces mayor que en la sustancia blanc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 ello, el nivel del flujo sanguíneo en la sustancia gris es cuatro veces mayor que en la sustancia blanc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capilares del cerebro son mucho menos permeables q los capilares de otras zonas del cuerpo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cerebro los capilares están rodeados por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podocitos neurogliales”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proporcionan un soporte físico para impedir la distensión excesiva de los capilares en caso de una exposición a una presión sanguínea elev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ff99"/>
                </a:solidFill>
                <a:latin typeface="Arial"/>
              </a:rPr>
              <a:t>SISTEMA DEL LC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volumen total de la cavidad que envuelve el cerebro y la médula espinal es de 1600 a 1700 ml.      Unos 150 ml de éste volumen están ocupados por el LCR y el resto por el cerebro y la médula espin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e líquido se encuentra en </a:t>
            </a:r>
            <a:r>
              <a:rPr b="0" i="1" lang="es-ES" sz="2800" spc="-1" strike="noStrike">
                <a:solidFill>
                  <a:srgbClr val="afe1ff"/>
                </a:solidFill>
                <a:latin typeface="Arial"/>
              </a:rPr>
              <a:t>los ventrículos del cerebr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s-ES" sz="2800" spc="-1" strike="noStrike">
                <a:solidFill>
                  <a:srgbClr val="afe1ff"/>
                </a:solidFill>
                <a:latin typeface="Arial"/>
              </a:rPr>
              <a:t>en las cisternas que rodean por fuera al cerebr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i="1" lang="es-ES" sz="2800" spc="-1" strike="noStrike">
                <a:solidFill>
                  <a:srgbClr val="afe1ff"/>
                </a:solidFill>
                <a:latin typeface="Arial"/>
              </a:rPr>
              <a:t>en el espacio subaracnoideo que rodea el cerebro y la médula espinal.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as cámaras están interconectadas y la presión del LCR se mantiene en un nivel constan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"/>
          <p:cNvPicPr/>
          <p:nvPr/>
        </p:nvPicPr>
        <p:blipFill>
          <a:blip r:embed="rId1"/>
          <a:srcRect l="5835" t="0" r="50731" b="56350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fe1ff"/>
                </a:solidFill>
                <a:latin typeface="Arial"/>
              </a:rPr>
              <a:t>Función amortiguadora del LC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función fundamental del LCR es amortiguar al encéfalo dentro de su bóveda sólid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cerebro y el LCR tienen aprox la misma densidad. (difieren en un 4%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obstante, el encéfalo flota en el LCR, un golpe en la cabeza mueve simultáneamente el cerebro con el cráneo, sin que ninguna parte del cerebro pueda torsionarse por el golp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4000" spc="-1" strike="noStrike">
                <a:solidFill>
                  <a:srgbClr val="ccecff"/>
                </a:solidFill>
                <a:latin typeface="Arial"/>
              </a:rPr>
              <a:t>Contragolpe.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Cuando el golpe en la cabeza es intenso, puede no dañar el encéfalo en el mismo lado de su acción, sino el lado opuesto:  </a:t>
            </a: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Contragolp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ES" sz="3200" spc="-1" strike="noStrike">
                <a:solidFill>
                  <a:srgbClr val="ccecff"/>
                </a:solidFill>
                <a:latin typeface="Arial"/>
              </a:rPr>
              <a:t>Los polos de lób frontales y temporales y sus caras inferior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zonas donde el encéfalo entra en contacto con las protuberancias óseas de la base del cráne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fe1ff"/>
                </a:solidFill>
                <a:latin typeface="Arial"/>
              </a:rPr>
              <a:t>Formación, flujo y absorción del LC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LCR se forma a una veloc de unos 500 ml diarios, lo q supone el triple o el cuádruple de su volumen total en todo el sistema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rededor de l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o más de esta cantidad se debe a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secreción desde </a:t>
            </a:r>
            <a:r>
              <a:rPr b="0" i="1" lang="es-ES" sz="2800" spc="-1" strike="noStrike">
                <a:solidFill>
                  <a:srgbClr val="ccecff"/>
                </a:solidFill>
                <a:latin typeface="Arial"/>
              </a:rPr>
              <a:t>los plexos coroideos en los cuatro ventrículos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, sobretodo en los dos ventrículos lateral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 poco más se produce en </a:t>
            </a:r>
            <a:r>
              <a:rPr b="0" lang="es-ES" sz="2800" spc="-1" strike="noStrike">
                <a:solidFill>
                  <a:srgbClr val="ccecff"/>
                </a:solidFill>
                <a:latin typeface="Arial"/>
              </a:rPr>
              <a:t>la superficie ependimaria de todos los ventrícul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en </a:t>
            </a:r>
            <a:r>
              <a:rPr b="0" lang="es-ES" sz="2800" spc="-1" strike="noStrike">
                <a:solidFill>
                  <a:srgbClr val="ccecff"/>
                </a:solidFill>
                <a:latin typeface="Arial"/>
              </a:rPr>
              <a:t>la aracnoid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; un pequeño % procede del </a:t>
            </a:r>
            <a:r>
              <a:rPr b="0" lang="es-ES" sz="2800" spc="-1" strike="noStrike">
                <a:solidFill>
                  <a:srgbClr val="ccecff"/>
                </a:solidFill>
                <a:latin typeface="Arial"/>
              </a:rPr>
              <a:t>propio encéfalo a través de los espacios perivascula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24000" y="55080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principales canales por LCR nacen en </a:t>
            </a:r>
            <a:r>
              <a:rPr b="0" i="1" lang="es-ES" sz="2800" spc="-1" strike="noStrike">
                <a:solidFill>
                  <a:srgbClr val="99ff99"/>
                </a:solidFill>
                <a:latin typeface="Arial"/>
              </a:rPr>
              <a:t>los plexos coroide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parte segregada en </a:t>
            </a:r>
            <a:r>
              <a:rPr b="0" i="1" lang="es-ES" sz="2800" spc="-1" strike="noStrike">
                <a:solidFill>
                  <a:srgbClr val="99ff99"/>
                </a:solidFill>
                <a:latin typeface="Arial"/>
              </a:rPr>
              <a:t>los ventrículos laterales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sa primero hacia </a:t>
            </a:r>
            <a:r>
              <a:rPr b="0" i="1" lang="es-ES" sz="2800" spc="-1" strike="noStrike">
                <a:solidFill>
                  <a:srgbClr val="99ff99"/>
                </a:solidFill>
                <a:latin typeface="Arial"/>
              </a:rPr>
              <a:t>el tercer ventrícul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; después desciende a lo largo del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acueducto de Silvi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acia </a:t>
            </a:r>
            <a:r>
              <a:rPr b="0" i="1" lang="es-ES" sz="2800" spc="-1" strike="noStrike">
                <a:solidFill>
                  <a:srgbClr val="99ff99"/>
                </a:solidFill>
                <a:latin typeface="Arial"/>
              </a:rPr>
              <a:t>el cuarto ventrícul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nde aún se añade otra mínima proporción de líqui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inalmente, sale del cuarto ventrículo por los tres pequeños orificios: </a:t>
            </a:r>
            <a:r>
              <a:rPr b="0" i="1" lang="es-ES" sz="2800" spc="-1" strike="noStrike">
                <a:solidFill>
                  <a:srgbClr val="afe1ff"/>
                </a:solidFill>
                <a:latin typeface="Arial"/>
              </a:rPr>
              <a:t>los dos agujeros laterales de Luschk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i="1" lang="es-ES" sz="2800" spc="-1" strike="noStrike">
                <a:solidFill>
                  <a:srgbClr val="afe1ff"/>
                </a:solidFill>
                <a:latin typeface="Arial"/>
              </a:rPr>
              <a:t>el agujero central de Magendie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penetrar en </a:t>
            </a:r>
            <a:r>
              <a:rPr b="0" i="1" lang="es-ES" sz="2800" spc="-1" strike="noStrike">
                <a:solidFill>
                  <a:srgbClr val="99ff99"/>
                </a:solidFill>
                <a:latin typeface="Arial"/>
              </a:rPr>
              <a:t>la cisterna magn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 espacio de líquido que queda detrás del bulbo raquídeo y debajo del cerebe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904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ff99"/>
                </a:solidFill>
                <a:latin typeface="Arial"/>
              </a:rPr>
              <a:t>FLUJO SANGUINEO CEREBR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235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e1ff"/>
                </a:solidFill>
                <a:latin typeface="Arial"/>
              </a:rPr>
              <a:t>FLUJO SANGUINEO CEREBRAL NORMAL.</a:t>
            </a: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flujo sanguíneo normal a través del cerebro de una persona  adulta es de 50-65 ml. cada 100 gr. de tejido por minu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todo el encéfalo asciende 750-900 ml/min = el 15% del gasto cardíaco en repo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62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cisterna magna se continúa con </a:t>
            </a:r>
            <a:r>
              <a:rPr b="0" i="1" lang="es-ES" sz="3200" spc="-1" strike="noStrike">
                <a:solidFill>
                  <a:srgbClr val="99ff99"/>
                </a:solidFill>
                <a:latin typeface="Arial"/>
              </a:rPr>
              <a:t>el espacio subaracnoide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que rodea el encéfalo y la médula espinal en su integrida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sde aquí, penetra por </a:t>
            </a:r>
            <a:r>
              <a:rPr b="0" i="1" lang="es-ES" sz="3200" spc="-1" strike="noStrike">
                <a:solidFill>
                  <a:srgbClr val="99ff99"/>
                </a:solidFill>
                <a:latin typeface="Arial"/>
              </a:rPr>
              <a:t>las múltiples vellosidades aracnoidea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que sobresalen hacia el gran seno venoso sagital y otros senos venosos cerebrales y las atravie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showimage"/>
          <p:cNvPicPr/>
          <p:nvPr/>
        </p:nvPicPr>
        <p:blipFill>
          <a:blip r:embed="rId1"/>
          <a:srcRect l="0" t="0" r="0" b="4870"/>
          <a:stretch/>
        </p:blipFill>
        <p:spPr>
          <a:xfrm>
            <a:off x="0" y="44280"/>
            <a:ext cx="9144000" cy="532944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3"/>
          <p:cNvSpPr/>
          <p:nvPr/>
        </p:nvSpPr>
        <p:spPr>
          <a:xfrm>
            <a:off x="216000" y="5516640"/>
            <a:ext cx="87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as flechas indican el camino seguido por el flujo del líquido cefalorraquídeo desde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os plexos  coroideos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en los ventrículos laterales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 hasta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as vellosidades aracnoideas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 que sobresalen hacia los senos de la duramad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519120" y="188640"/>
            <a:ext cx="82296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fe1ff"/>
                </a:solidFill>
                <a:latin typeface="Arial"/>
              </a:rPr>
              <a:t>Secreción del LCR por </a:t>
            </a:r>
            <a:r>
              <a:rPr b="1" i="1" lang="es-ES" sz="3200" spc="-1" strike="noStrike" u="sng">
                <a:solidFill>
                  <a:srgbClr val="afe1ff"/>
                </a:solidFill>
                <a:uFillTx/>
                <a:latin typeface="Arial"/>
              </a:rPr>
              <a:t>el plexo coro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ES" sz="2800" spc="-1" strike="noStrike">
                <a:solidFill>
                  <a:srgbClr val="ccecff"/>
                </a:solidFill>
                <a:latin typeface="Arial"/>
              </a:rPr>
              <a:t>El plexo coroide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s un engrosamiento en forma de coliflor de vasos sanguíneos revestidos por una fina lámina de cél epiteli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e plexo, se proyecta a las astas temporales de cada ventrículo lateral, a la parte posterior del tercer ventrículo y al techo del cuarto ventrículo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secreción de líquido hacia los ventrículos por el plexo coroideo depende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del transporte de </a:t>
            </a:r>
            <a:r>
              <a:rPr b="0" i="1" lang="es-ES" sz="2800" spc="-1" strike="noStrike" u="sng">
                <a:solidFill>
                  <a:srgbClr val="ccecff"/>
                </a:solidFill>
                <a:uFillTx/>
                <a:latin typeface="Arial"/>
              </a:rPr>
              <a:t>iones sodi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a través de las cél epiteliales q tapizan su parte exter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iones sodio arrastran también </a:t>
            </a:r>
            <a:r>
              <a:rPr b="0" i="1" lang="es-ES" sz="2800" spc="-1" strike="noStrike">
                <a:solidFill>
                  <a:srgbClr val="ccecff"/>
                </a:solidFill>
                <a:latin typeface="Arial"/>
              </a:rPr>
              <a:t>iones clorur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debido a q su carga positiva atrae la negativa de estos últim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dos juntos elevan  el contenido de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cloruro sódico en el LC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está dotado de actividad osmótica, por lo que provoca la osmósis casi inmediata de agu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os procesos de transporte menos importantes, desplazan pequeñas cantidades de </a:t>
            </a:r>
            <a:r>
              <a:rPr b="0" i="1" lang="es-ES" sz="2800" spc="-1" strike="noStrike" u="sng">
                <a:solidFill>
                  <a:srgbClr val="ccecff"/>
                </a:solidFill>
                <a:uFillTx/>
                <a:latin typeface="Arial"/>
              </a:rPr>
              <a:t>glucos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hacia el LCR y extraen </a:t>
            </a:r>
            <a:r>
              <a:rPr b="0" i="1" lang="es-ES" sz="2800" spc="-1" strike="noStrike" u="sng">
                <a:solidFill>
                  <a:srgbClr val="ccecff"/>
                </a:solidFill>
                <a:uFillTx/>
                <a:latin typeface="Arial"/>
              </a:rPr>
              <a:t>iones potasi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bicarbonato hacia los capilares desde su interi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características finales del LCR s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s-ES" sz="2400" spc="-1" strike="noStrike" u="sng">
                <a:solidFill>
                  <a:srgbClr val="afe1ff"/>
                </a:solidFill>
                <a:uFillTx/>
                <a:latin typeface="Arial"/>
              </a:rPr>
              <a:t>Presión osmótica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aprox = a la del plasma, </a:t>
            </a:r>
            <a:r>
              <a:rPr b="1" i="1" lang="es-ES" sz="2400" spc="-1" strike="noStrike" u="sng">
                <a:solidFill>
                  <a:srgbClr val="afe1ff"/>
                </a:solidFill>
                <a:uFillTx/>
                <a:latin typeface="Arial"/>
              </a:rPr>
              <a:t>concentrac de iones Na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aprox = a la del plasma, </a:t>
            </a:r>
            <a:r>
              <a:rPr b="1" i="1" lang="es-ES" sz="2400" spc="-1" strike="noStrike" u="sng">
                <a:solidFill>
                  <a:srgbClr val="afe1ff"/>
                </a:solidFill>
                <a:uFillTx/>
                <a:latin typeface="Arial"/>
              </a:rPr>
              <a:t>iones cloruro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un 15% que el plasma, </a:t>
            </a:r>
            <a:r>
              <a:rPr b="1" i="1" lang="es-ES" sz="2400" spc="-1" strike="noStrike" u="sng">
                <a:solidFill>
                  <a:srgbClr val="afe1ff"/>
                </a:solidFill>
                <a:uFillTx/>
                <a:latin typeface="Arial"/>
              </a:rPr>
              <a:t>iones K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un 40% menos y </a:t>
            </a:r>
            <a:r>
              <a:rPr b="1" i="1" lang="es-ES" sz="2400" spc="-1" strike="noStrike" u="sng">
                <a:solidFill>
                  <a:srgbClr val="afe1ff"/>
                </a:solidFill>
                <a:uFillTx/>
                <a:latin typeface="Arial"/>
              </a:rPr>
              <a:t>glucosa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un 30% men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"/>
          <p:cNvPicPr/>
          <p:nvPr/>
        </p:nvPicPr>
        <p:blipFill>
          <a:blip r:embed="rId1"/>
          <a:srcRect l="9915" t="0" r="14763" b="4997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5"/>
          <p:cNvSpPr/>
          <p:nvPr/>
        </p:nvSpPr>
        <p:spPr>
          <a:xfrm>
            <a:off x="5435640" y="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66"/>
                </a:solidFill>
                <a:uFillTx/>
                <a:latin typeface="Tahoma"/>
              </a:rPr>
              <a:t>PLEXO COROID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51912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fe1ff"/>
                </a:solidFill>
                <a:latin typeface="Arial"/>
              </a:rPr>
              <a:t>Absorción del LCR  a través de </a:t>
            </a:r>
            <a:r>
              <a:rPr b="1" i="1" lang="es-ES" sz="3600" spc="-1" strike="noStrike" u="sng">
                <a:solidFill>
                  <a:srgbClr val="afe1ff"/>
                </a:solidFill>
                <a:uFillTx/>
                <a:latin typeface="Arial"/>
              </a:rPr>
              <a:t>las vellosidades aracnoide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LCR se reabsorbe por las múltiples vellosidades aracnoideas que se proyectan en el gran seno venoso sagital, así como en otros senos venosos del cerebr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LCR se vacía en las venas a través de la superficie de estas vellos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afe1ff"/>
                </a:solidFill>
                <a:uFillTx/>
                <a:latin typeface="Arial"/>
              </a:rPr>
              <a:t>Los espacios perivasculares</a:t>
            </a:r>
            <a:r>
              <a:rPr b="1" lang="es-ES" sz="3200" spc="-1" strike="noStrike">
                <a:solidFill>
                  <a:srgbClr val="afe1ff"/>
                </a:solidFill>
                <a:latin typeface="Arial"/>
              </a:rPr>
              <a:t> funcionan como un sistema linfático del cerebr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ando los vasos sanguíneos que irrigan el cerebro penetran en su interior, llevan consigo una capa de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iamadre.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pía está laxamente adherida a los vasos, lo que crea un espacio entre ambos: </a:t>
            </a:r>
            <a:r>
              <a:rPr b="1" i="1" lang="es-ES" sz="2800" spc="-1" strike="noStrike">
                <a:solidFill>
                  <a:srgbClr val="ccecff"/>
                </a:solidFill>
                <a:latin typeface="Arial"/>
              </a:rPr>
              <a:t>espacio perivascular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e espacio acompaña a las arterias y a las venas al interior del cerebro, así como también a las arteriolas y las vénulas, sin embargo no acompaña a los capilar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proteínas que se filtran al espacio intersticial del cerebro fluye a través de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os espacios perivascula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l espacio subaracnoi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ccecff"/>
                </a:solidFill>
                <a:latin typeface="Arial"/>
              </a:rPr>
              <a:t>Los espacios perivasculare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stituyen un sistema linfático especializado para el encéfal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demás de transportar líquido y proteínas, también sacan del encéfalo sustancias sólidas extrañas, por ej. 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Cuando hay una infección encefálica, los glob blancos muertos y otros residuos infecciosos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expulsan por los espacios perivascula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1" descr="d:\SCContent\0721602401\graphics\fullsize\S02401-061-f006.jpg"/>
          <p:cNvPicPr/>
          <p:nvPr/>
        </p:nvPicPr>
        <p:blipFill>
          <a:blip r:embed="rId1"/>
          <a:srcRect l="18623" t="0" r="18623" b="9212"/>
          <a:stretch/>
        </p:blipFill>
        <p:spPr>
          <a:xfrm>
            <a:off x="539640" y="44280"/>
            <a:ext cx="7920000" cy="576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48" name="Text Box 5"/>
          <p:cNvSpPr/>
          <p:nvPr/>
        </p:nvSpPr>
        <p:spPr>
          <a:xfrm>
            <a:off x="504720" y="605628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Drenaje de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un espacio perivascular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 hacia el espacio subaracnoid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fe1ff"/>
                </a:solidFill>
                <a:latin typeface="Arial"/>
              </a:rPr>
              <a:t>Presión del LCR</a:t>
            </a: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presión normal del sistema del LCR en una persona acostad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30 ml de agua ( 10 mmHg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ede bajar hasta 65 ml o subir hasta 195 ml en persona normal sa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Regulación de la presión del LCR por las vellosidades aracnoideas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velocidad normal de formación del LCR   permanece muy consta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cambio,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as vellosidades aracnoidea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ncionan como válvulas q permiten la salida sin problemas del LCR y de su contenido hacia la sangre de los senos venosos mientras q impiden el retroceso de la sangre en un sentido opues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5183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fe1ff"/>
                </a:solidFill>
                <a:latin typeface="Arial"/>
              </a:rPr>
              <a:t>REGULACIÓN DEL FLUJO SANGUÍNEO CEREB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ay  3 factores metabólicos que tienen efectos importantes sobre el flujo sanguíneo cerebr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dióxido de carbon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hidrogeniones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oxígen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mente, la acción valvular de las vellosidades permite q el LCR fluya hacia los senos venosos cuando la presión del líquido es aprox 1.5 mmHg mayor q la presión de la sangre en los senos venos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ando se bloquean las vellosidades por partículas grandes o por fibrosis, la presión del LCR puede elevarse much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afe1ff"/>
                </a:solidFill>
                <a:uFillTx/>
                <a:latin typeface="Arial"/>
              </a:rPr>
              <a:t>Hipertensión del LCR</a:t>
            </a:r>
            <a:r>
              <a:rPr b="1" lang="es-ES" sz="3200" spc="-1" strike="noStrike">
                <a:solidFill>
                  <a:srgbClr val="afe1ff"/>
                </a:solidFill>
                <a:latin typeface="Arial"/>
              </a:rPr>
              <a:t> en situaciones patológicas del encéfal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ff99"/>
                </a:solidFill>
                <a:latin typeface="Arial"/>
              </a:rPr>
              <a:t>Los tumores cerebrale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99ff99"/>
                </a:solidFill>
                <a:latin typeface="Arial"/>
              </a:rPr>
              <a:t>las hemorragia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i="1" lang="es-ES" sz="2800" spc="-1" strike="noStrike">
                <a:solidFill>
                  <a:srgbClr val="99ff99"/>
                </a:solidFill>
                <a:latin typeface="Arial"/>
              </a:rPr>
              <a:t>infeccióne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ueden interrumpir la capacidad de absorción de las vellosidades aracnoideas y ocasionar que la presión del LCR aumente tres o cuatro veces por encima de lo norm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gunos bebés nacen con una presión alta de LCR, se debe a que existe una resistencia anormalmente elevada contra su reabsorción a través de las vellosidades aracnoideas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99ff99"/>
                </a:solidFill>
                <a:latin typeface="Arial"/>
              </a:rPr>
              <a:t>hidrocefal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1"/>
          <a:srcRect l="19698" t="47352" r="41081" b="34784"/>
          <a:stretch/>
        </p:blipFill>
        <p:spPr>
          <a:xfrm>
            <a:off x="0" y="714240"/>
            <a:ext cx="9118440" cy="4357800"/>
          </a:xfrm>
          <a:prstGeom prst="rect">
            <a:avLst/>
          </a:prstGeom>
          <a:ln w="0">
            <a:noFill/>
          </a:ln>
        </p:spPr>
      </p:pic>
      <p:sp>
        <p:nvSpPr>
          <p:cNvPr id="455" name="4 CuadroTexto"/>
          <p:cNvSpPr/>
          <p:nvPr/>
        </p:nvSpPr>
        <p:spPr>
          <a:xfrm>
            <a:off x="285840" y="214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TAC AX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5 CuadroTexto"/>
          <p:cNvSpPr/>
          <p:nvPr/>
        </p:nvSpPr>
        <p:spPr>
          <a:xfrm>
            <a:off x="3071880" y="214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RMN AX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6 CuadroTexto"/>
          <p:cNvSpPr/>
          <p:nvPr/>
        </p:nvSpPr>
        <p:spPr>
          <a:xfrm>
            <a:off x="6072120" y="2858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RMN SAG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ff99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99ff99"/>
                </a:solidFill>
                <a:latin typeface="Arial"/>
              </a:rPr>
              <a:t>Hidrocefalia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xceso de agua en la bóveda crane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ES" sz="2800" spc="-1" strike="noStrike">
                <a:solidFill>
                  <a:srgbClr val="99ff99"/>
                </a:solidFill>
                <a:latin typeface="Arial"/>
              </a:rPr>
              <a:t>Hidrocefalia comunicante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líquido fluye fácilmente desde el sistema ventricular al espacio subaracnoid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debe al bloqueo del flujo de líquido al espacio subaracnoideo en torno a las regiones basales del cerebro o a un bloqueo de las propias vellosidades arac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s-ES" sz="2800" spc="-1" strike="noStrike">
                <a:solidFill>
                  <a:srgbClr val="99ff99"/>
                </a:solidFill>
                <a:latin typeface="Arial"/>
              </a:rPr>
              <a:t>Hidrocefalia no comunicante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flujo de salida de uno o más ventrículos está bloque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produce por un bloqueo del acueducto de Silvio como consecuencia de un defecto congénito o de un tumor cerebr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e1ff"/>
                </a:solidFill>
                <a:latin typeface="Arial"/>
              </a:rPr>
              <a:t>La Hipertensión del LCR provoca un edema en el disco óptico: </a:t>
            </a:r>
            <a:r>
              <a:rPr b="1" i="1" lang="es-ES" sz="3600" spc="-1" strike="noStrike" u="sng">
                <a:solidFill>
                  <a:srgbClr val="afe1ff"/>
                </a:solidFill>
                <a:uFillTx/>
                <a:latin typeface="Arial"/>
              </a:rPr>
              <a:t>edema de papil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duramadre del encéfalo se extiende como una sábana en torno al nervio óptico y después se continúa con la esclerótic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ando la presión sube en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sistema del LCR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bién lo hace dentro de la vaina que rodea al nervio óptic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tejidos del disco óptico tienen una distensibilidad  muy superior a la del resto de la retina, por lo que esta estructura se pone mucho más edematosa que las demás zonas y abulta hacia la cavidad del globo ocular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ccecff"/>
                </a:solidFill>
                <a:latin typeface="Arial"/>
              </a:rPr>
              <a:t>edema pap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afe1ff"/>
                </a:solidFill>
                <a:uFillTx/>
                <a:latin typeface="Arial"/>
              </a:rPr>
              <a:t>Barreras hematocefalorraquídeas</a:t>
            </a:r>
            <a:r>
              <a:rPr b="1" lang="es-ES" sz="3200" spc="-1" strike="noStrike">
                <a:solidFill>
                  <a:srgbClr val="afe1ff"/>
                </a:solidFill>
                <a:latin typeface="Arial"/>
              </a:rPr>
              <a:t> y </a:t>
            </a:r>
            <a:r>
              <a:rPr b="1" lang="es-ES" sz="3200" spc="-1" strike="noStrike" u="sng">
                <a:solidFill>
                  <a:srgbClr val="afe1ff"/>
                </a:solidFill>
                <a:uFillTx/>
                <a:latin typeface="Arial"/>
              </a:rPr>
              <a:t>hematoencefálicas</a:t>
            </a: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constituyentes del LCR no son exactamente los mismos a los del LEC de cualquier parte del cuerpo.    Muchas moléculas de gran tamaño no pasan desde la sangre al LCR o a los líquidos intersticiales del cerebr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isten </a:t>
            </a:r>
            <a:r>
              <a:rPr b="1" i="1" lang="es-ES" sz="2400" spc="-1" strike="noStrike">
                <a:solidFill>
                  <a:srgbClr val="ccecff"/>
                </a:solidFill>
                <a:latin typeface="Arial"/>
              </a:rPr>
              <a:t>barrera hematocefalorraquídea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i="1" lang="es-ES" sz="2400" spc="-1" strike="noStrike">
                <a:solidFill>
                  <a:srgbClr val="ccecff"/>
                </a:solidFill>
                <a:latin typeface="Arial"/>
              </a:rPr>
              <a:t>barrera hematoencefálica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e la sangre y el LCR y entre ésta y el líquido encefál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s barreras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son muy permeabl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l agua, al 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al 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a la mayoría de las sustancias liposolubles como el alcohol y la mayoría de los anestésicos,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es ligeramente permeabl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ciertos electrolitos como el sodio, el cloruro y el potasio; y 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asi totalmente impermeabl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las proteínas plasmáticas y a la mayoría de la grandes moléculas orgánicas no liposolubl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causa de la baja permeabilidad de estas barreras reside en la forma de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unión de las cél endoteliales de los capilares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lamada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uniones intercelulares herméticas o estrecha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as barrera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cen imposible que se logren concentraciones eficaces de fármacos terapéuticos, como anticuerpos proteicos y compuestos no liposolubles, en el LCR o en el parénquima cerebr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fe1ff"/>
                </a:solidFill>
                <a:latin typeface="Arial"/>
              </a:rPr>
              <a:t>Edema Cerebral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de las complicaciones más graves de las alteraciones de la hemodinámica cerebral y de la dinámica de los fluidos es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l edema cereb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uede producirse por una presión capilar muy grande o por una conmoción en la q el tejido cerebral y los capilares se traumaticen y salga el líquido capilar hacia los teji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vez q ha comenzado el edema cerebral, es frecuente q se inicie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un círculo vicioso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Tahoma"/>
              </a:rPr>
              <a:t>EDEMA CEREBR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BÓVEDA CRANEAL SÓLI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AUMENTO DE PRESIÓN EN LOS CAPILA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LESIÓN EN LA PARED DE CAPILA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EL EDEMA COMPRIME LOS VASOS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 BAJA EL FLUJO SANGUÍNEO        ISQUEMIA      DILATACIÓN ARTERIOLAR      SALIDA DE LÍQU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BAJA OXÍGENO  </a:t>
            </a:r>
            <a:r>
              <a:rPr b="0" lang="es-MX" sz="3200" spc="-1" strike="noStrike">
                <a:solidFill>
                  <a:srgbClr val="9966ff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9966ff"/>
                </a:solidFill>
                <a:latin typeface="Symbol"/>
                <a:ea typeface="Symbol"/>
              </a:rPr>
              <a:t></a:t>
            </a: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    AUMENTO DE PERMEABILIDAD  </a:t>
            </a:r>
            <a:r>
              <a:rPr b="0" lang="es-MX" sz="3200" spc="-1" strike="noStrike">
                <a:solidFill>
                  <a:srgbClr val="9966ff"/>
                </a:solidFill>
                <a:latin typeface="Symbol"/>
                <a:ea typeface="Symbol"/>
              </a:rPr>
              <a:t></a:t>
            </a: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     MAS LÍQU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3 Flecha derecha"/>
          <p:cNvSpPr/>
          <p:nvPr/>
        </p:nvSpPr>
        <p:spPr>
          <a:xfrm>
            <a:off x="7095960" y="3429000"/>
            <a:ext cx="57168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66ff"/>
          </a:solidFill>
          <a:ln w="25560">
            <a:solidFill>
              <a:srgbClr val="6f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4 Flecha derecha"/>
          <p:cNvSpPr/>
          <p:nvPr/>
        </p:nvSpPr>
        <p:spPr>
          <a:xfrm>
            <a:off x="4863960" y="3929040"/>
            <a:ext cx="57168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66ff"/>
          </a:solidFill>
          <a:ln w="25560">
            <a:solidFill>
              <a:srgbClr val="6f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5 Flecha derecha"/>
          <p:cNvSpPr/>
          <p:nvPr/>
        </p:nvSpPr>
        <p:spPr>
          <a:xfrm>
            <a:off x="7745400" y="3929040"/>
            <a:ext cx="57168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66ff"/>
          </a:solidFill>
          <a:ln w="25560">
            <a:solidFill>
              <a:srgbClr val="6f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6 Flecha derecha"/>
          <p:cNvSpPr/>
          <p:nvPr/>
        </p:nvSpPr>
        <p:spPr>
          <a:xfrm>
            <a:off x="5584680" y="4357800"/>
            <a:ext cx="571680" cy="4284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9966ff"/>
          </a:solidFill>
          <a:ln w="25560">
            <a:solidFill>
              <a:srgbClr val="6f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7 Flecha derecha"/>
          <p:cNvSpPr/>
          <p:nvPr/>
        </p:nvSpPr>
        <p:spPr>
          <a:xfrm>
            <a:off x="3143160" y="5072040"/>
            <a:ext cx="57168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66ff"/>
          </a:solidFill>
          <a:ln w="25560">
            <a:solidFill>
              <a:srgbClr val="6f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8 Flecha derecha"/>
          <p:cNvSpPr/>
          <p:nvPr/>
        </p:nvSpPr>
        <p:spPr>
          <a:xfrm>
            <a:off x="8321760" y="4429080"/>
            <a:ext cx="571320" cy="4287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9966ff"/>
          </a:solidFill>
          <a:ln w="25560">
            <a:solidFill>
              <a:srgbClr val="6f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ff99"/>
                </a:solidFill>
                <a:latin typeface="Arial"/>
              </a:rPr>
              <a:t>METABOLISMO CEREBR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estado de reposo, el metabolismo del cerebro  supone el 15% del metabolismo corporal total, incluso aunque la masa del cerebro sea el 2% de la masa tot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estado de reposo el metabolismo  cerebral es unas 7.5 veces el metabolismo medio del resto del cuerp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El dióxido de carbono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combina con el agua para formar ácido carbónico, que se disocia parcialmente para formar hidrogeni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Los hidrogeniones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iginan una vasodilatación cerebral  que es proporcional a su concentración en la sangre cerebral. Cualquier sustancia q aumente la acidez del encéfalo, y por tanto, la concentración de hidrogeniones, aumentará el flujo sanguíneo cerebral; entre éstas sustancias se encuentran: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l ácido láctic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l ácido pirúvic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entre otro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La disminución de la PO</a:t>
            </a:r>
            <a:r>
              <a:rPr b="0" i="1" lang="es-ES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tejido cerebral produce un aumento inmediato del flujo sanguíneo cerebral; esto se debe a la vasodilatación local de los vasos sanguíneos cerebr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e1ff"/>
                </a:solidFill>
                <a:latin typeface="Arial"/>
              </a:rPr>
              <a:t>El cerebro tiene una capacidad anaerobia limitad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mayoría de los tejidos del cuerpo pueden pasar sin oxígeno algunos minutos.  Durante este tiempo, las cél obtienen su energía a través del metabolismo anaerobi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ido a la elevada tasa metabólica del cerebro, la degradación anaerobia del glucógeno no puede proporcionar la energía necesaria para sostener la actividad neuronal, por ello; la mayor parte de la actividad neuronal depende de la liberación, segundo a segundo de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glucosa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xígeno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sde la sangr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fe1ff"/>
                </a:solidFill>
                <a:latin typeface="Arial"/>
              </a:rPr>
              <a:t>En condiciones normales, la mayor parte de la energía del cerebro procede de </a:t>
            </a:r>
            <a:r>
              <a:rPr b="1" i="1" lang="es-ES" sz="3600" spc="-1" strike="noStrike" u="sng">
                <a:solidFill>
                  <a:srgbClr val="ffcc00"/>
                </a:solidFill>
                <a:uFillTx/>
                <a:latin typeface="Arial"/>
              </a:rPr>
              <a:t>la glucosa sanguíne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a característica especial del suministro de </a:t>
            </a:r>
            <a:r>
              <a:rPr b="1" i="1" lang="es-ES" sz="3200" spc="-1" strike="noStrike">
                <a:solidFill>
                  <a:srgbClr val="ffcc00"/>
                </a:solidFill>
                <a:latin typeface="Arial"/>
              </a:rPr>
              <a:t>glucos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a las neuronas es que su transporte a través de la membrana celular de la neurona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no depende de la insulina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3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4"/>
          <p:cNvSpPr/>
          <p:nvPr/>
        </p:nvSpPr>
        <p:spPr>
          <a:xfrm>
            <a:off x="179280" y="6237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uestro carácter es el resultado de nuestra conduct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Aristóte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"/>
          <p:cNvPicPr/>
          <p:nvPr/>
        </p:nvPicPr>
        <p:blipFill>
          <a:blip r:embed="rId1">
            <a:lum bright="6000"/>
          </a:blip>
          <a:srcRect l="15079" t="0" r="15056" b="6585"/>
          <a:stretch/>
        </p:blipFill>
        <p:spPr>
          <a:xfrm>
            <a:off x="0" y="-27000"/>
            <a:ext cx="9144000" cy="633564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3"/>
          <p:cNvSpPr/>
          <p:nvPr/>
        </p:nvSpPr>
        <p:spPr>
          <a:xfrm>
            <a:off x="158760" y="6256440"/>
            <a:ext cx="707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466560" y="630864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Relación entre la PCO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 arterial y el flujo sanguíneo cereb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fe1ff"/>
                </a:solidFill>
                <a:latin typeface="Arial"/>
              </a:rPr>
              <a:t>Medición del flujo sanguíneo cerebral y efectos sobre él de la actividad cerebra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Arial"/>
              </a:rPr>
              <a:t>Se pudo comprobar que el flujo sanguíneo  de un segmento  del cerebro cambia en segundos en respuesta a la actividad neuronal loc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s.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a acción de cerrar el puño provoca un aumento inmediato del flujo sanguíneo de la corteza motora del hemisf cerebral del lado o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a acción de leer eleva el flujo sanguíneo en la corteza occipital y en el área de percepción del lenguaje de la corteza tempo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"/>
          <p:cNvPicPr/>
          <p:nvPr/>
        </p:nvPicPr>
        <p:blipFill>
          <a:blip r:embed="rId1"/>
          <a:srcRect l="20719" t="7980" r="19553" b="14746"/>
          <a:stretch/>
        </p:blipFill>
        <p:spPr>
          <a:xfrm>
            <a:off x="0" y="27000"/>
            <a:ext cx="9144000" cy="599436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3"/>
          <p:cNvSpPr/>
          <p:nvPr/>
        </p:nvSpPr>
        <p:spPr>
          <a:xfrm>
            <a:off x="142920" y="59500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Aumento del flujo sanguíneo en las regiones occipitales del cerebro de un gato cuando se enfocan sus ojos con una lu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e1ff"/>
                </a:solidFill>
                <a:latin typeface="Arial"/>
              </a:rPr>
              <a:t>AUTORREGULACIÓN DEL FLUJO SANGUÍNEO CEREBRAL CUANDO VARÍA LA P/A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0920" y="109548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flujo sanguíneo cerebral se mantiene casi constante entre los límites de 60 y 140mmHg de presión arterial med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obstante, la P/A puede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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hasta los 60mmHg o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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140 mmHg sin que sucedan cambios significativos en el flujo sanguíneo cerebral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ando la P/A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or debajo de 60: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el flujo sanguíneo cereb resulta gravemente comprometi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 la P/A sobrepasa el límite superior de autorreg: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el flujo sang se eleva rápidamente y puede causar  una gran distensión o la rotura de vasos sang cereb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ccecff"/>
                </a:solidFill>
                <a:latin typeface="Arial"/>
              </a:rPr>
              <a:t>hemorragia cerebral</a:t>
            </a:r>
            <a:r>
              <a:rPr b="0" i="1" lang="es-ES" sz="2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"/>
          <p:cNvPicPr/>
          <p:nvPr/>
        </p:nvPicPr>
        <p:blipFill>
          <a:blip r:embed="rId1"/>
          <a:srcRect l="22533" t="10542" r="22240" b="15761"/>
          <a:stretch/>
        </p:blipFill>
        <p:spPr>
          <a:xfrm>
            <a:off x="0" y="44280"/>
            <a:ext cx="9144000" cy="59770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3"/>
          <p:cNvSpPr/>
          <p:nvPr/>
        </p:nvSpPr>
        <p:spPr>
          <a:xfrm>
            <a:off x="395280" y="587844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Efecto de las diferencias en la presión arterial media sobre el flujo sanguíneo cerebral en diversos seres humanos, desde el nivel de hipotensión hasta el de hiperten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19:57:45Z</dcterms:created>
  <dc:creator>DR. MIGUEL ANGEL GARCÍA GARCÍA</dc:creator>
  <dc:description/>
  <dc:language>en-US</dc:language>
  <cp:lastModifiedBy>Kevin Chanquin</cp:lastModifiedBy>
  <dcterms:modified xsi:type="dcterms:W3CDTF">2013-05-04T07:08:58Z</dcterms:modified>
  <cp:revision>77</cp:revision>
  <dc:subject/>
  <dc:title>FLUJO SANGUINEO CEREBRAL, LCR y METABOLISMO CEREBRAL</dc:title>
</cp:coreProperties>
</file>