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8CD-C104-40C1-BBBA-30876610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144-D66B-4762-ACD1-604D550A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0AC-F83A-4164-A08D-C702AD9F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137-6009-4DA1-92A5-CE33E78A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4F0-5E97-4822-BA8D-0D1D1D17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62B8-DFA6-445E-A7F1-4702C6B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99A6-1ECC-4BEC-A5A1-C9471720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B7A9-F996-4E09-8D6A-02C8612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62B0-AA57-46AF-97C7-2B3121E5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F1B9-99DE-40DA-AA53-427F7449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98EC-E943-4BDF-8EB0-A6B7A2E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0DD-638B-497F-B8C1-EBB9E3B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DB5B-EB7A-4FCF-B865-CE813BC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5B3F-5642-4887-B704-8C3D0D9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9495-07D0-462D-94A8-9AFDD732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810D-4721-45DE-A81F-C3C0C213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CFBC-F863-4786-883D-EA235C42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C9C5-6505-4CA5-BA57-3EBF83B1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7860-A722-4B3F-B40D-6AA0B27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21A1-BFC9-4347-8041-9F7935FF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3FD8-DF1F-4CBF-A45B-104CD3C0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5B5E-3276-4298-9CF4-31E0E89B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4EF-B6A1-4009-ADC7-0D2F727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AA70-905B-4C6B-B033-80DAE3C3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D3A4-54DF-41EB-8A1B-E88040A5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BCC5-87C1-4BCA-B01D-5748A32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4DE2-CC97-42F6-B5F5-365047A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4ABE-5FA0-44AC-886A-0FF1A04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582C-20FC-4CAC-BAFE-56AA8D50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F843-D6A7-49B4-B713-CCB0EE2A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8E7B-D89A-4405-A79B-34184CAB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F618-F24C-4FF3-9BCE-14529C37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190D-2649-4C5E-A243-F99F9CFD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64F-95A5-4CDB-A444-E35D05C3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9D90-BF8F-4D33-8817-CC38C99B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D601-0252-4FFC-939C-1EA00C35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2BC1-9BBF-4B22-99F7-AD614803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4E85-C6BE-4749-9663-CAD4726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804E-A749-40D3-A16D-E2446855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E457-ABF8-4F6D-9194-A7FB2CC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C539-EA35-470F-9AAF-8EC26AB9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1F26-8D47-48FD-B736-34023861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9C14-3352-4BD2-994C-E8C18CF0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478-BADD-470D-9FD4-8E41ADD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38A-D052-4C26-AFE6-F27FD1AA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3CB-EAC5-404A-A34B-FA3493B3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D90-A828-4016-80C9-F6AB91F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B4B-9227-45EE-8EFC-CACADE3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9CB-A1D1-4B95-A71F-799EF5F8CE5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7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81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82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AD6B-3423-49AB-BEB2-352C6F5FED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2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Tahoma"/>
                </a:endParaRPr>
              </a:p>
            </p:txBody>
          </p:sp>
          <p:sp>
            <p:nvSpPr>
              <p:cNvPr id="12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Tahoma"/>
                </a:endParaRPr>
              </a:p>
            </p:txBody>
          </p:sp>
        </p:grpSp>
        <p:grpSp>
          <p:nvGrpSpPr>
            <p:cNvPr id="12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2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Tahoma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99"/>
                  </a:solidFill>
                  <a:latin typeface="Tahoma"/>
                </a:endParaRPr>
              </a:p>
            </p:txBody>
          </p:sp>
        </p:grpSp>
        <p:sp>
          <p:nvSpPr>
            <p:cNvPr id="13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A90-72BA-4434-A3F2-7523A0AFA9D1}" type="slidenum">
              <a:rPr b="0" lang="es-ES" sz="2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7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19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99"/>
                </a:solidFill>
                <a:latin typeface="Tahom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E066-AFA1-4CF3-A1F8-441AFABD652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6a4076"/>
                </a:solidFill>
                <a:uFillTx/>
                <a:latin typeface="Tahoma"/>
              </a:rPr>
              <a:t>INTEGRACIÓN DE LOS MECANISMOS RENALES</a:t>
            </a:r>
            <a:endParaRPr b="0" lang="en-US" sz="48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EL CONTROL DEL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VOLUMEN SANGUÍNEO</a:t>
            </a: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         </a:t>
            </a: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Y DEL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VOLUMEN DEL LEC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1" lang="es-ES" sz="2400" spc="-1" strike="noStrike">
                <a:solidFill>
                  <a:srgbClr val="009900"/>
                </a:solidFill>
                <a:latin typeface="Tahoma"/>
              </a:rPr>
              <a:t>REGULACIÓN RENAL DE </a:t>
            </a:r>
            <a:r>
              <a:rPr b="1" i="1" lang="es-ES" sz="3200" spc="-1" strike="noStrike" u="sng">
                <a:solidFill>
                  <a:srgbClr val="009900"/>
                </a:solidFill>
                <a:uFillTx/>
                <a:latin typeface="Tahoma"/>
              </a:rPr>
              <a:t>POTASIO</a:t>
            </a:r>
            <a:r>
              <a:rPr b="1" lang="es-ES" sz="3200" spc="-1" strike="noStrike">
                <a:solidFill>
                  <a:srgbClr val="009900"/>
                </a:solidFill>
                <a:latin typeface="Tahoma"/>
              </a:rPr>
              <a:t>, </a:t>
            </a:r>
            <a:r>
              <a:rPr b="1" i="1" lang="es-ES" sz="3200" spc="-1" strike="noStrike" u="sng">
                <a:solidFill>
                  <a:srgbClr val="009900"/>
                </a:solidFill>
                <a:uFillTx/>
                <a:latin typeface="Tahoma"/>
              </a:rPr>
              <a:t>CALCIO</a:t>
            </a:r>
            <a:r>
              <a:rPr b="1" lang="es-ES" sz="3200" spc="-1" strike="noStrike">
                <a:solidFill>
                  <a:srgbClr val="009900"/>
                </a:solidFill>
                <a:latin typeface="Tahoma"/>
              </a:rPr>
              <a:t>, </a:t>
            </a:r>
            <a:r>
              <a:rPr b="1" i="1" lang="es-ES" sz="3200" spc="-1" strike="noStrike" u="sng">
                <a:solidFill>
                  <a:srgbClr val="009900"/>
                </a:solidFill>
                <a:uFillTx/>
                <a:latin typeface="Tahoma"/>
              </a:rPr>
              <a:t>FOSFATO</a:t>
            </a:r>
            <a:r>
              <a:rPr b="1" lang="es-ES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9900"/>
                </a:solidFill>
                <a:latin typeface="Tahoma"/>
              </a:rPr>
              <a:t>Y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009900"/>
                </a:solidFill>
                <a:uFillTx/>
                <a:latin typeface="Tahoma"/>
              </a:rPr>
              <a:t>MAGNESIO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643120" y="5516640"/>
            <a:ext cx="6105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Dr. Miguel Ángel García-García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fesor Titular Área de Fisiologí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611280" y="819000"/>
            <a:ext cx="799308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Uno de los mecanismos más potentes de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9900"/>
                </a:solidFill>
                <a:latin typeface="Tahoma"/>
              </a:rPr>
              <a:t>control de volumen sanguíneo y del volumen del LEC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sí como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 del </a:t>
            </a:r>
            <a:r>
              <a:rPr b="0" i="1" lang="es-ES" sz="3200" spc="-1" strike="noStrike">
                <a:solidFill>
                  <a:srgbClr val="009900"/>
                </a:solidFill>
                <a:latin typeface="Tahoma"/>
              </a:rPr>
              <a:t>mantenimiento del equilibrio de Na y del equilibrio del Agua,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efecto de</a:t>
            </a: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la presión sanguínea sobre la excreción de sodio y agua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(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natriuresis de presión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y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diuresis de presión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).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55280" y="1989000"/>
            <a:ext cx="7637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-diuresis de presión: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fecto que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elevación de la presión sanguíne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ejerce para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incrementar el volumen de la orina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-natriuresis de presión: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al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incremento de la excreción de sodio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que se produce cuando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aumenta la presión sanguínea. 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9328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“</a:t>
            </a:r>
            <a:r>
              <a:rPr b="1" i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La natriuresis de presión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”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es el elemento clave del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 “</a:t>
            </a: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mecanismo de retroacción</a:t>
            </a:r>
            <a:r>
              <a:rPr b="1" i="1" lang="es-ES" sz="2800" spc="-1" strike="noStrike">
                <a:solidFill>
                  <a:srgbClr val="ff0000"/>
                </a:solidFill>
                <a:latin typeface="Tahoma"/>
              </a:rPr>
              <a:t>” entre los riñones y los líquidos corporales</a:t>
            </a:r>
            <a:r>
              <a:rPr b="1" i="1" lang="es-E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2090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ando se producen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cambios en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os aportes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de Na y agu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este mecanismo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9900"/>
                </a:solidFill>
                <a:latin typeface="Tahoma"/>
              </a:rPr>
              <a:t>“ayuda a mantener el equilibrio y reduce al mínimo las variaciones del volumen sanguíneo, del volumen del LEC y de la P/A”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,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la forma siguiente: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8ad48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1. </a:t>
            </a:r>
            <a:r>
              <a:rPr b="1" i="1" lang="es-ES" sz="4000" spc="-1" strike="noStrike" u="sng">
                <a:solidFill>
                  <a:srgbClr val="003399"/>
                </a:solidFill>
                <a:uFillTx/>
                <a:latin typeface="Tahoma"/>
              </a:rPr>
              <a:t>Un aumento de la ingestión de líquido</a:t>
            </a:r>
            <a:r>
              <a:rPr b="0" i="1" lang="es-ES" sz="2800" spc="-1" strike="noStrike">
                <a:solidFill>
                  <a:srgbClr val="b8ad48"/>
                </a:solidFill>
                <a:latin typeface="Tahoma"/>
              </a:rPr>
              <a:t> </a:t>
            </a:r>
            <a:r>
              <a:rPr b="1" i="1" lang="es-ES" sz="3600" spc="-1" strike="noStrike">
                <a:solidFill>
                  <a:srgbClr val="003399"/>
                </a:solidFill>
                <a:latin typeface="Tahoma"/>
              </a:rPr>
              <a:t>mayor que la excreción urinaria</a:t>
            </a:r>
            <a:r>
              <a:rPr b="1" lang="es-ES" sz="3600" spc="-1" strike="noStrike">
                <a:solidFill>
                  <a:srgbClr val="003399"/>
                </a:solidFill>
                <a:latin typeface="Tahoma"/>
              </a:rPr>
              <a:t>,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duce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retención temporal de líquido en el organismo,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í como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b8ad48"/>
                </a:solidFill>
                <a:latin typeface="Tahoma"/>
              </a:rPr>
              <a:t>un pequeño aumento del volumen sanguíneo y del volumen del LEC.</a:t>
            </a:r>
            <a:r>
              <a:rPr b="0" lang="es-ES" sz="2800" spc="-1" strike="noStrike">
                <a:solidFill>
                  <a:srgbClr val="b8ad4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2. 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Un aumento del volumen sanguíneo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incrementa la presión media de llenado circulatorio y el gasto cardíaco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569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3. </a:t>
            </a:r>
            <a:r>
              <a:rPr b="0" i="1" lang="es-ES" sz="2800" spc="-1" strike="noStrike">
                <a:solidFill>
                  <a:srgbClr val="b8ad48"/>
                </a:solidFill>
                <a:latin typeface="Tahoma"/>
              </a:rPr>
              <a:t>Un aumento del gasto cardíaco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eleva la P/A e incrementa la excreción de orina a través de la natriuresis de presión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4. </a:t>
            </a:r>
            <a:r>
              <a:rPr b="0" i="1" lang="es-ES" sz="2800" spc="-1" strike="noStrike">
                <a:solidFill>
                  <a:srgbClr val="b8ad48"/>
                </a:solidFill>
                <a:latin typeface="Tahoma"/>
              </a:rPr>
              <a:t>Un aumento de </a:t>
            </a:r>
            <a:r>
              <a:rPr b="0" i="1" lang="es-ES" sz="2800" spc="-1" strike="noStrike" u="sng">
                <a:solidFill>
                  <a:srgbClr val="b8ad48"/>
                </a:solidFill>
                <a:uFillTx/>
                <a:latin typeface="Tahoma"/>
              </a:rPr>
              <a:t>la excreción</a:t>
            </a:r>
            <a:r>
              <a:rPr b="0" i="1" lang="es-ES" sz="2800" spc="-1" strike="noStrike">
                <a:solidFill>
                  <a:srgbClr val="b8ad48"/>
                </a:solidFill>
                <a:latin typeface="Tahoma"/>
              </a:rPr>
              <a:t> de líquido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equilibra el incremento de </a:t>
            </a:r>
            <a:r>
              <a:rPr b="0" i="1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la ingestión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,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impidiendo que siga acumulando más líquido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009900"/>
                </a:solidFill>
                <a:latin typeface="Tahoma"/>
              </a:rPr>
              <a:t>(Evita </a:t>
            </a:r>
            <a:r>
              <a:rPr b="1" lang="es-ES" sz="2400" spc="-1" strike="noStrike" u="sng">
                <a:solidFill>
                  <a:srgbClr val="009900"/>
                </a:solidFill>
                <a:uFillTx/>
                <a:latin typeface="Tahoma"/>
              </a:rPr>
              <a:t>la acumulación continuada de sal y agua</a:t>
            </a:r>
            <a:r>
              <a:rPr b="1" lang="es-ES" sz="2400" spc="-1" strike="noStrike">
                <a:solidFill>
                  <a:srgbClr val="009900"/>
                </a:solidFill>
                <a:latin typeface="Tahoma"/>
              </a:rPr>
              <a:t> en el organismo cuando </a:t>
            </a:r>
            <a:r>
              <a:rPr b="1" lang="es-ES" sz="2400" spc="-1" strike="noStrike" u="sng">
                <a:solidFill>
                  <a:srgbClr val="009900"/>
                </a:solidFill>
                <a:uFillTx/>
                <a:latin typeface="Tahoma"/>
              </a:rPr>
              <a:t>aumentan la ingestión de sal y agua</a:t>
            </a:r>
            <a:r>
              <a:rPr b="1" lang="es-ES" sz="2400" spc="-1" strike="noStrike">
                <a:solidFill>
                  <a:srgbClr val="009900"/>
                </a:solidFill>
                <a:latin typeface="Tahoma"/>
              </a:rPr>
              <a:t>).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ver diagrama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45"/>
          <p:cNvPicPr/>
          <p:nvPr/>
        </p:nvPicPr>
        <p:blipFill>
          <a:blip r:embed="rId1"/>
          <a:stretch/>
        </p:blipFill>
        <p:spPr>
          <a:xfrm>
            <a:off x="971640" y="115920"/>
            <a:ext cx="6912000" cy="4870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5489640" y="27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425640" y="1479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425640" y="2558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260760" y="3711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888560" y="3639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74096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87640" y="2276640"/>
            <a:ext cx="3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2987640" y="234936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3059280" y="269568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Tahoma"/>
              </a:rPr>
              <a:t>(Natriuresis de Presión)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250920" y="469728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Mecanismo básico de Retroacción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entre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Riñón y Liq. Orgánicos 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Para el control del volumen sanguíneo, del vol del LEC y de la Presión arterial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El aumento de la excreción de orina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respuesta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al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↑ de la P/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rma parte de: </a:t>
            </a:r>
            <a:r>
              <a:rPr b="1" i="1" lang="es-ES" sz="1800" spc="-1" strike="noStrike" u="sng">
                <a:solidFill>
                  <a:srgbClr val="003399"/>
                </a:solidFill>
                <a:uFillTx/>
                <a:latin typeface="Arial"/>
                <a:ea typeface="Arial"/>
              </a:rPr>
              <a:t>un sistema potente de retroacción</a:t>
            </a:r>
            <a:r>
              <a:rPr b="0" i="1" lang="es-ES" sz="1800" spc="-1" strike="noStrike">
                <a:solidFill>
                  <a:srgbClr val="003399"/>
                </a:solidFill>
                <a:latin typeface="Arial"/>
                <a:ea typeface="Arial"/>
              </a:rPr>
              <a:t>, que funciona manteniendo el equilibrio entre EL INGRESO Y LA EXCRECIÓN DE LÍQUIDO.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íneas continuas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fectos positivos    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íneas discontinuas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egativos.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4360" y="295380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8ad48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-Cuando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ingestión de líquido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es menor de lo normal</a:t>
            </a:r>
            <a:r>
              <a:rPr b="1" i="1" lang="es-E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 produce</a:t>
            </a: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 la secuencia de sucesos contraria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598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DISTRIBUCIÓN DEL LEC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ENTRE 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LOS ESPACIOS INTERSTICIALES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 Y 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EL SISTEMA VASCULAR </a:t>
            </a:r>
            <a:br>
              <a:rPr sz="2800"/>
            </a:br>
            <a:endParaRPr b="0" lang="en-US" sz="28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4360" y="2666880"/>
            <a:ext cx="79200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*</a:t>
            </a:r>
            <a:r>
              <a:rPr b="0" i="1" lang="es-ES" sz="3600" spc="-1" strike="noStrike" u="sng">
                <a:solidFill>
                  <a:srgbClr val="003399"/>
                </a:solidFill>
                <a:uFillTx/>
                <a:latin typeface="Tahoma"/>
              </a:rPr>
              <a:t>El líquido y las sales ingeridas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, inicialmente entran en </a:t>
            </a:r>
            <a:r>
              <a:rPr b="0" i="1" lang="es-ES" sz="3600" spc="-1" strike="noStrike">
                <a:solidFill>
                  <a:srgbClr val="003399"/>
                </a:solidFill>
                <a:latin typeface="Tahoma"/>
              </a:rPr>
              <a:t>la sangre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, pero rápidamente empiezan a distribuirse entre </a:t>
            </a:r>
            <a:r>
              <a:rPr b="0" i="1" lang="es-ES" sz="3600" spc="-1" strike="noStrike">
                <a:solidFill>
                  <a:srgbClr val="b8ad48"/>
                </a:solidFill>
                <a:latin typeface="Tahoma"/>
              </a:rPr>
              <a:t>los espacios intersticiales 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y</a:t>
            </a:r>
            <a:r>
              <a:rPr b="0" i="1" lang="es-ES" sz="3600" spc="-1" strike="noStrike">
                <a:solidFill>
                  <a:srgbClr val="b8ad48"/>
                </a:solidFill>
                <a:latin typeface="Tahoma"/>
              </a:rPr>
              <a:t> el plasma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993080" cy="70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-Los principales factores que pueden ocasionar la salida de líquido desde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el plasm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hacia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os espacios intersticiales</a:t>
            </a:r>
            <a:r>
              <a:rPr b="0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  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(edema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)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so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8ad48"/>
                </a:solidFill>
                <a:latin typeface="Symbol"/>
                <a:ea typeface="Symbol"/>
              </a:rPr>
              <a:t>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de presión </a:t>
            </a:r>
            <a:r>
              <a:rPr b="0" i="1" lang="es-ES" sz="3200" spc="-1" strike="noStrike" u="sng">
                <a:solidFill>
                  <a:srgbClr val="b8ad48"/>
                </a:solidFill>
                <a:uFillTx/>
                <a:latin typeface="Tahoma"/>
              </a:rPr>
              <a:t>hidrostática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 capila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8ad48"/>
                </a:solidFill>
                <a:latin typeface="Symbol"/>
                <a:ea typeface="Symbol"/>
              </a:rPr>
              <a:t>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de presión </a:t>
            </a:r>
            <a:r>
              <a:rPr b="0" i="1" lang="es-ES" sz="3200" spc="-1" strike="noStrike" u="sng">
                <a:solidFill>
                  <a:srgbClr val="b8ad48"/>
                </a:solidFill>
                <a:uFillTx/>
                <a:latin typeface="Tahoma"/>
              </a:rPr>
              <a:t>coloidosmótica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 del plasma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8ad48"/>
                </a:solidFill>
                <a:latin typeface="Symbol"/>
                <a:ea typeface="Symbol"/>
              </a:rPr>
              <a:t>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de permeabilidad de los capilare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Obstrucción de los vasos linfáticos.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7993080" cy="64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i="1" lang="es-ES" sz="3600" spc="-1" strike="noStrike" u="sng">
                <a:solidFill>
                  <a:srgbClr val="6a4076"/>
                </a:solidFill>
                <a:uFillTx/>
                <a:latin typeface="Tahoma"/>
              </a:rPr>
              <a:t>FACTORES NERVIOSOS</a:t>
            </a:r>
            <a:r>
              <a:rPr b="1" i="1" lang="es-ES" sz="36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6a4076"/>
                </a:solidFill>
                <a:latin typeface="Tahoma"/>
              </a:rPr>
              <a:t>Y </a:t>
            </a:r>
            <a:r>
              <a:rPr b="1" i="1" lang="es-ES" sz="3600" spc="-1" strike="noStrike" u="sng">
                <a:solidFill>
                  <a:srgbClr val="6a4076"/>
                </a:solidFill>
                <a:uFillTx/>
                <a:latin typeface="Tahoma"/>
              </a:rPr>
              <a:t>HORMONALES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QUE AUMENTAN LA EFICACIA DE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 “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LA RETROACCIÓN ENTRE EL RIÑÓN Y LOS LÍQUIDOS CORPORALES”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600" spc="-1" strike="noStrike">
                <a:solidFill>
                  <a:srgbClr val="6a4076"/>
                </a:solidFill>
                <a:latin typeface="Tahoma"/>
              </a:rPr>
              <a:t>-</a:t>
            </a:r>
            <a:r>
              <a:rPr b="1" lang="es-ES" sz="3600" spc="-1" strike="noStrike">
                <a:solidFill>
                  <a:srgbClr val="6a4076"/>
                </a:solidFill>
                <a:latin typeface="Tahoma"/>
              </a:rPr>
              <a:t>Los mecanismos nerviosos </a:t>
            </a:r>
            <a:r>
              <a:rPr b="0" lang="es-ES" sz="3600" spc="-1" strike="noStrike">
                <a:solidFill>
                  <a:srgbClr val="6a4076"/>
                </a:solidFill>
                <a:latin typeface="Tahoma"/>
              </a:rPr>
              <a:t>y </a:t>
            </a:r>
            <a:r>
              <a:rPr b="1" lang="es-ES" sz="3600" spc="-1" strike="noStrike">
                <a:solidFill>
                  <a:srgbClr val="6a4076"/>
                </a:solidFill>
                <a:latin typeface="Tahoma"/>
              </a:rPr>
              <a:t>hormonales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actúan junto con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600" spc="-1" strike="noStrike">
                <a:solidFill>
                  <a:srgbClr val="6a4076"/>
                </a:solidFill>
                <a:latin typeface="Tahoma"/>
              </a:rPr>
              <a:t>los de natriuresis de presión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,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para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 reducir las variaciones de volumen sanguíneo, del LEC y de la P/A.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CONTROL DEL </a:t>
            </a:r>
            <a:r>
              <a:rPr b="1" i="1" lang="es-ES" sz="3600" spc="-1" strike="noStrike" u="sng">
                <a:solidFill>
                  <a:srgbClr val="003399"/>
                </a:solidFill>
                <a:uFillTx/>
                <a:latin typeface="Tahoma"/>
              </a:rPr>
              <a:t>VOLUMEN DEL LÍQUIDO EXTRACELULAR</a:t>
            </a:r>
            <a:r>
              <a:rPr b="1" i="1" lang="es-ES" sz="3600" spc="-1" strike="noStrike">
                <a:solidFill>
                  <a:srgbClr val="003399"/>
                </a:solidFill>
                <a:latin typeface="Tahoma"/>
              </a:rPr>
              <a:t> (LEC)</a:t>
            </a:r>
            <a:r>
              <a:rPr b="1" i="1" lang="es-ES" sz="3600" spc="-1" strike="noStrike" u="sng">
                <a:solidFill>
                  <a:srgbClr val="00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Al tratar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la regulación del volumen del LEC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considerar los factores que </a:t>
            </a: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regulan la cantidad de NaCl presente en el LEC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, ya que sus variaciones pueden producir cambios paralelos de dicho volumen, siempre qu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os mecanismos de la ADH-sed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funcionen de manera adecuada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La regulación del vol LEC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se realiza en los riñones, que tienen que adaptar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su excreció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a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ingestió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de sal y agua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**</a:t>
            </a:r>
            <a:r>
              <a:rPr b="0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Control de la excreción renal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por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EL SISTEMA NERVIOSO SIMPÁTICO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mediante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 los reflejos de los barorreceptores arteriales y de los receptores de distensión de baja presión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.**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b8ad48"/>
                </a:solidFill>
                <a:latin typeface="Tahoma"/>
              </a:rPr>
              <a:t>-Los cambios de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la actividad simpátic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eden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variar la excreción renal de Na y agu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, así como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del volumen del LEC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092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b8ad48"/>
                </a:solidFill>
                <a:latin typeface="Tahoma"/>
              </a:rPr>
              <a:t>-</a:t>
            </a:r>
            <a:r>
              <a:rPr b="1" lang="es-ES" sz="3600" spc="-1" strike="noStrike" u="sng">
                <a:solidFill>
                  <a:srgbClr val="b8ad48"/>
                </a:solidFill>
                <a:uFillTx/>
                <a:latin typeface="Tahoma"/>
              </a:rPr>
              <a:t>El incremento de la actividad simpática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tiene diversos efectos 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para </a:t>
            </a:r>
            <a:r>
              <a:rPr b="0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reducir la excreción de sodio y agua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1280" y="2278080"/>
            <a:ext cx="7920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Se produce 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una vasoconstricción renal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, con la consiguiente reducción de la TFG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2.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Aumenta la reabsorción tubular de sal y de agua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3.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Se estimula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 la liberación de renina 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y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aumenta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 la producción de angiotensina II y aldosterona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, sustancias que aumentan aún más la reabsorción tubular.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79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**</a:t>
            </a:r>
            <a:r>
              <a:rPr b="1" lang="es-ES" sz="3600" spc="-1" strike="noStrike" u="sng">
                <a:solidFill>
                  <a:srgbClr val="b8ad48"/>
                </a:solidFill>
                <a:uFillTx/>
                <a:latin typeface="Tahoma"/>
              </a:rPr>
              <a:t>La angiotensina II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es una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sustancia controladora de la excreción renal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muy poderosa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.**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3ce82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*Cuando la ingestión de Na es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Tahoma"/>
              </a:rPr>
              <a:t>superior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a lo normal: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-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a secreción de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renin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disminuye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y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se produce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menos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angiotensina II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, provocando 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el aumento de la reabsorción tubular de sodio en los riñones.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6200" y="2422080"/>
            <a:ext cx="820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8ad48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*Cuando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Tahoma"/>
              </a:rPr>
              <a:t>disminuyen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los aportes de Na: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aument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la concentración d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angiotensina II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con lo que 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se retiene Na y agu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, lo que se opone al descenso de la P/A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(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excreción  urinaria de Na y Agua)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921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-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os cambios de la actividad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del sistema renina-angiotensina II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actúan como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unos amplificadores del mecanismo de “natriuresis de presión”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para el mantenimiento de presiones sanguíneas y volúmenes de los líquidos corporales estables.</a:t>
            </a: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68000" y="2305080"/>
            <a:ext cx="8209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Ni la disminución ni el incremento 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de la cantidad de angiotensina II en la circulación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tiene un gran efecto sobre el volumen del LEC ni sobre el volumen sanguíneo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en las personas con un sistema cardiovascular normal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”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8ad48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646200"/>
            <a:ext cx="7793280" cy="15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**</a:t>
            </a:r>
            <a:r>
              <a:rPr b="1" lang="es-ES" sz="3600" spc="-1" strike="noStrike" u="sng">
                <a:solidFill>
                  <a:srgbClr val="b8ad48"/>
                </a:solidFill>
                <a:uFillTx/>
                <a:latin typeface="Tahoma"/>
              </a:rPr>
              <a:t>La aldosterona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tiene gran importancia en el control de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a excreción renal de Na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.**</a:t>
            </a:r>
            <a:br>
              <a:rPr sz="3200"/>
            </a:b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79930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*Al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disminuir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 el aporte de Na:</a:t>
            </a:r>
            <a:r>
              <a:rPr b="1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aumenta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la concentración de angiotensina II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y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se estimula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la secreción de aldosterona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, lo que contribuye a que </a:t>
            </a:r>
            <a:r>
              <a:rPr b="1" lang="es-ES" sz="2800" spc="-1" strike="noStrike">
                <a:solidFill>
                  <a:srgbClr val="003399"/>
                </a:solidFill>
                <a:latin typeface="Tahoma"/>
              </a:rPr>
              <a:t>disminuya la excreción urinaria de sodio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y por tanto a mantener su equilibrio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*Cuando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hay grandes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 aportes de Na:</a:t>
            </a:r>
            <a:r>
              <a:rPr b="1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la supresión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de la formación de aldosterona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ahoma"/>
              </a:rPr>
              <a:t>reduce la reabsorción tubular de sodio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, lo que permite que </a:t>
            </a:r>
            <a:r>
              <a:rPr b="1" lang="es-ES" sz="2800" spc="-1" strike="noStrike">
                <a:solidFill>
                  <a:srgbClr val="003399"/>
                </a:solidFill>
                <a:latin typeface="Tahoma"/>
              </a:rPr>
              <a:t>los riñones excreten grandes cantidades de Na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921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8ad48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**</a:t>
            </a:r>
            <a:r>
              <a:rPr b="1" lang="es-ES" sz="3600" spc="-1" strike="noStrike" u="sng">
                <a:solidFill>
                  <a:srgbClr val="b8ad48"/>
                </a:solidFill>
                <a:uFillTx/>
                <a:latin typeface="Tahoma"/>
              </a:rPr>
              <a:t>La ADH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controla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a excreción renal de agua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.**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8ad48"/>
                </a:solidFill>
                <a:latin typeface="Symbol"/>
                <a:ea typeface="Symbol"/>
              </a:rPr>
              <a:t>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La ADH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realiza una importante función, ya qu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permite que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os riñones puedan formar un pequeño volumen de orina concentrad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y, aún así,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continúen excretando una cantidad normal de sodio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ste efecto, es importante 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durante la privación de agua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39280" y="2306160"/>
            <a:ext cx="7921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Cuando hay un exceso de volumen del LEC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, la disminución de la concentración de </a:t>
            </a:r>
            <a:r>
              <a:rPr b="0" i="1" lang="es-ES" sz="3200" spc="-1" strike="noStrike">
                <a:solidFill>
                  <a:srgbClr val="b8ad48"/>
                </a:solidFill>
                <a:latin typeface="Symbol"/>
                <a:ea typeface="Symbol"/>
              </a:rPr>
              <a:t>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ADH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reduce la reabsorción de agua por los riñones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, lo que contribuye a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eliminar el exceso de volumen del cuerpo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280" y="3838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ahoma"/>
              </a:rPr>
              <a:t>SITUACIONES QUE PRODUCEN </a:t>
            </a:r>
            <a:br>
              <a:rPr sz="3600"/>
            </a:br>
            <a:br>
              <a:rPr sz="3600"/>
            </a:br>
            <a:r>
              <a:rPr b="1" lang="es-ES" sz="4000" spc="-1" strike="noStrike" u="sng">
                <a:solidFill>
                  <a:srgbClr val="003399"/>
                </a:solidFill>
                <a:uFillTx/>
                <a:latin typeface="Tahoma"/>
              </a:rPr>
              <a:t>GRANDES AUMENTOS</a:t>
            </a:r>
            <a:r>
              <a:rPr b="1" lang="es-ES" sz="4000" spc="-1" strike="noStrike">
                <a:solidFill>
                  <a:srgbClr val="6a4076"/>
                </a:solidFill>
                <a:latin typeface="Tahoma"/>
              </a:rPr>
              <a:t> DEL </a:t>
            </a:r>
            <a:r>
              <a:rPr b="1" i="1" lang="es-ES" sz="4000" spc="-1" strike="noStrike">
                <a:solidFill>
                  <a:srgbClr val="6a4076"/>
                </a:solidFill>
                <a:latin typeface="Tahoma"/>
              </a:rPr>
              <a:t>“VOLUMEN SANGUÍNEO”  </a:t>
            </a:r>
            <a:r>
              <a:rPr b="1" lang="es-ES" sz="4000" spc="-1" strike="noStrike">
                <a:solidFill>
                  <a:srgbClr val="6a4076"/>
                </a:solidFill>
                <a:latin typeface="Tahoma"/>
              </a:rPr>
              <a:t>Y DEL</a:t>
            </a:r>
            <a:r>
              <a:rPr b="1" i="1" lang="es-ES" sz="4000" spc="-1" strike="noStrike">
                <a:solidFill>
                  <a:srgbClr val="6a4076"/>
                </a:solidFill>
                <a:latin typeface="Tahoma"/>
              </a:rPr>
              <a:t> “VOLUMEN DEL LEC”</a:t>
            </a: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a407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 rot="10800000">
            <a:off x="1150200" y="332280"/>
            <a:ext cx="779292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47736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b8ad48"/>
                </a:solidFill>
                <a:latin typeface="Tahoma"/>
              </a:rPr>
              <a:t>En condiciones de equilibrio, </a:t>
            </a:r>
            <a:r>
              <a:rPr b="1" i="1" lang="es-ES" sz="3600" spc="-1" strike="noStrike" u="sng">
                <a:solidFill>
                  <a:srgbClr val="b8ad48"/>
                </a:solidFill>
                <a:uFillTx/>
                <a:latin typeface="Tahoma"/>
              </a:rPr>
              <a:t>la excreción</a:t>
            </a:r>
            <a:r>
              <a:rPr b="1" i="1" lang="es-ES" sz="3600" spc="-1" strike="noStrike">
                <a:solidFill>
                  <a:srgbClr val="b8ad48"/>
                </a:solidFill>
                <a:latin typeface="Tahoma"/>
              </a:rPr>
              <a:t> de sodio</a:t>
            </a: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b8ad48"/>
                </a:solidFill>
                <a:latin typeface="Tahoma"/>
              </a:rPr>
              <a:t>se adapta con precisión a </a:t>
            </a:r>
            <a:r>
              <a:rPr b="1" i="1" lang="es-ES" sz="3600" spc="-1" strike="noStrike" u="sng">
                <a:solidFill>
                  <a:srgbClr val="b8ad48"/>
                </a:solidFill>
                <a:uFillTx/>
                <a:latin typeface="Tahoma"/>
              </a:rPr>
              <a:t>la ingestión</a:t>
            </a:r>
            <a:r>
              <a:rPr b="1" i="1" lang="es-ES" sz="3600" spc="-1" strike="noStrike">
                <a:solidFill>
                  <a:srgbClr val="b8ad48"/>
                </a:solidFill>
                <a:latin typeface="Tahoma"/>
              </a:rPr>
              <a:t> de sodio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003399"/>
                </a:solidFill>
                <a:uFillTx/>
                <a:latin typeface="Tahoma"/>
              </a:rPr>
              <a:t>La excreción</a:t>
            </a:r>
            <a:r>
              <a:rPr b="1" i="1" lang="es-ES" sz="3600" spc="-1" strike="noStrike">
                <a:solidFill>
                  <a:srgbClr val="003399"/>
                </a:solidFill>
                <a:latin typeface="Tahoma"/>
              </a:rPr>
              <a:t> de sodio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 se controla mediante la modificación de</a:t>
            </a:r>
            <a:r>
              <a:rPr b="0" i="1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600" spc="-1" strike="noStrike">
                <a:solidFill>
                  <a:srgbClr val="ff0000"/>
                </a:solidFill>
                <a:latin typeface="Tahoma"/>
              </a:rPr>
              <a:t>las tasas de filtración glomerular</a:t>
            </a:r>
            <a:r>
              <a:rPr b="0" i="1" lang="es-E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o</a:t>
            </a:r>
            <a:r>
              <a:rPr b="0" i="1" lang="es-E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de </a:t>
            </a:r>
            <a:r>
              <a:rPr b="1" i="1" lang="es-ES" sz="3600" spc="-1" strike="noStrike">
                <a:solidFill>
                  <a:srgbClr val="ff0000"/>
                </a:solidFill>
                <a:latin typeface="Tahoma"/>
              </a:rPr>
              <a:t>reabsorción tubular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20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b8ad48"/>
                </a:solidFill>
                <a:uFillTx/>
                <a:latin typeface="Tahoma"/>
              </a:rPr>
              <a:t>Enfermedades cardíacas</a:t>
            </a:r>
            <a:r>
              <a:rPr b="0" i="1" lang="es-ES" sz="3200" spc="-1" strike="noStrike" u="sng">
                <a:solidFill>
                  <a:srgbClr val="b8ad48"/>
                </a:solidFill>
                <a:uFillTx/>
                <a:latin typeface="Tahoma"/>
              </a:rPr>
              <a:t>:</a:t>
            </a:r>
            <a:r>
              <a:rPr b="0" i="1" lang="es-E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9900"/>
                </a:solidFill>
                <a:latin typeface="Tahoma"/>
              </a:rPr>
              <a:t>En </a:t>
            </a:r>
            <a:r>
              <a:rPr b="1" lang="es-ES" sz="2400" spc="-1" strike="noStrike">
                <a:solidFill>
                  <a:srgbClr val="009900"/>
                </a:solidFill>
                <a:latin typeface="Tahoma"/>
              </a:rPr>
              <a:t>la ICC</a:t>
            </a:r>
            <a:r>
              <a:rPr b="0" lang="es-ES" sz="2400" spc="-1" strike="noStrike">
                <a:solidFill>
                  <a:srgbClr val="009900"/>
                </a:solidFill>
                <a:latin typeface="Tahoma"/>
              </a:rPr>
              <a:t>, el volumen sanguíneo puede </a:t>
            </a:r>
            <a:r>
              <a:rPr b="0" lang="es-ES" sz="2400" spc="-1" strike="noStrike">
                <a:solidFill>
                  <a:srgbClr val="009900"/>
                </a:solidFill>
                <a:latin typeface="Symbol"/>
                <a:ea typeface="Symbol"/>
              </a:rPr>
              <a:t></a:t>
            </a:r>
            <a:r>
              <a:rPr b="0" lang="es-ES" sz="2400" spc="-1" strike="noStrike">
                <a:solidFill>
                  <a:srgbClr val="009900"/>
                </a:solidFill>
                <a:latin typeface="Tahoma"/>
              </a:rPr>
              <a:t> de 15-20% y el volumen del LEC puede llegar a </a:t>
            </a:r>
            <a:r>
              <a:rPr b="0" lang="es-ES" sz="2400" spc="-1" strike="noStrike">
                <a:solidFill>
                  <a:srgbClr val="009900"/>
                </a:solidFill>
                <a:latin typeface="Symbol"/>
                <a:ea typeface="Symbol"/>
              </a:rPr>
              <a:t></a:t>
            </a:r>
            <a:r>
              <a:rPr b="0" lang="es-ES" sz="2400" spc="-1" strike="noStrike">
                <a:solidFill>
                  <a:srgbClr val="009900"/>
                </a:solidFill>
                <a:latin typeface="Tahoma"/>
              </a:rPr>
              <a:t> hasta un 200% o más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8ad4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8ad48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-Si la insuficiencia NO es muy grande:</a:t>
            </a: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la retención de líquido por los riñones contribuye a </a:t>
            </a:r>
            <a:r>
              <a:rPr b="0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normalizar la P/A y el GC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8ad48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-Si la lesión cardíaca SI es muy grande:</a:t>
            </a: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la P/A no puede elevarse</a:t>
            </a: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 lo suficiente como para que la excreción de orina se normalice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En este caso, los riñones continúan reteniendo volumen hasta que el paciente presenta una congestión circulatoria grave y fallece por el edema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784836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b8ad48"/>
                </a:solidFill>
                <a:uFillTx/>
                <a:latin typeface="Tahoma"/>
              </a:rPr>
              <a:t>Aumento de la capacidad de la circulación</a:t>
            </a: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-El embarazo,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debido al incremento de la capacidad vascular del útero, la placenta, etc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-Varices,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n casos graves puede llegar a almacenar hasta un litro de sangre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ahoma"/>
              </a:rPr>
              <a:t>SITUACIONES QUE PRODUCEN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3399"/>
                </a:solidFill>
                <a:uFillTx/>
                <a:latin typeface="Tahoma"/>
              </a:rPr>
              <a:t>GRANDES AUMENTOS</a:t>
            </a:r>
            <a:r>
              <a:rPr b="1" lang="es-ES" sz="4000" spc="-1" strike="noStrike">
                <a:solidFill>
                  <a:srgbClr val="6a4076"/>
                </a:solidFill>
                <a:latin typeface="Tahoma"/>
              </a:rPr>
              <a:t> DEL </a:t>
            </a:r>
            <a:r>
              <a:rPr b="1" i="1" lang="es-ES" sz="4000" spc="-1" strike="noStrike">
                <a:solidFill>
                  <a:srgbClr val="6a4076"/>
                </a:solidFill>
                <a:latin typeface="Tahoma"/>
              </a:rPr>
              <a:t>“VOLUMEN DEL LEC”</a:t>
            </a:r>
            <a:r>
              <a:rPr b="1" lang="es-ES" sz="4000" spc="-1" strike="noStrike">
                <a:solidFill>
                  <a:srgbClr val="6a4076"/>
                </a:solidFill>
                <a:latin typeface="Tahoma"/>
              </a:rPr>
              <a:t>  PERO CON </a:t>
            </a:r>
            <a:r>
              <a:rPr b="1" i="1" lang="es-ES" sz="4000" spc="-1" strike="noStrike">
                <a:solidFill>
                  <a:srgbClr val="6a4076"/>
                </a:solidFill>
                <a:latin typeface="Tahoma"/>
              </a:rPr>
              <a:t>“UN VOLUMEN SANGUÍNEO”  </a:t>
            </a:r>
            <a:r>
              <a:rPr b="1" lang="es-ES" sz="4000" spc="-1" strike="noStrike" u="sng">
                <a:solidFill>
                  <a:srgbClr val="003399"/>
                </a:solidFill>
                <a:uFillTx/>
                <a:latin typeface="Tahoma"/>
              </a:rPr>
              <a:t>NORMAL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12720" y="475920"/>
            <a:ext cx="792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-Estos trastornos 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suelen iniciarse con la salida de líquido y de proteínas hacia el intersticio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, lo que tiende a reducir el volumen sanguíneo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-La respuesta de los riñones ante estas circunstancias es similar a la que se produce </a:t>
            </a:r>
            <a:r>
              <a:rPr b="0" i="1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después de una hemorragia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los riñones retienen sal y agua para intentar normalizar el volumen sanguíneo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Ej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El síndrome nefrótico y la cirrosis hepática.</a:t>
            </a:r>
            <a:r>
              <a:rPr b="1" lang="es-ES" sz="3200" spc="-1" strike="noStrike">
                <a:solidFill>
                  <a:srgbClr val="b8ad4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Diapositiva53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a4076"/>
                </a:solidFill>
                <a:latin typeface="Tahoma"/>
              </a:rPr>
              <a:t>	</a:t>
            </a:r>
            <a:r>
              <a:rPr b="1" lang="es-ES" sz="4000" spc="-1" strike="noStrike">
                <a:solidFill>
                  <a:srgbClr val="009900"/>
                </a:solidFill>
                <a:latin typeface="Tahoma"/>
              </a:rPr>
              <a:t>REGULACIÓN DE </a:t>
            </a:r>
            <a:r>
              <a:rPr b="1" lang="es-ES" sz="4400" spc="-1" strike="noStrike">
                <a:solidFill>
                  <a:srgbClr val="009900"/>
                </a:solidFill>
                <a:latin typeface="Tahoma"/>
              </a:rPr>
              <a:t>LA </a:t>
            </a:r>
            <a:r>
              <a:rPr b="1" lang="es-ES" sz="4400" spc="-1" strike="noStrike" u="sng">
                <a:solidFill>
                  <a:srgbClr val="009900"/>
                </a:solidFill>
                <a:uFillTx/>
                <a:latin typeface="Tahoma"/>
              </a:rPr>
              <a:t>EXCRECIÓN</a:t>
            </a:r>
            <a:r>
              <a:rPr b="1" i="1" lang="es-ES" sz="5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i="1" lang="es-ES" sz="4400" spc="-1" strike="noStrike">
                <a:solidFill>
                  <a:srgbClr val="009900"/>
                </a:solidFill>
                <a:latin typeface="Tahoma"/>
              </a:rPr>
              <a:t>DE </a:t>
            </a:r>
            <a:r>
              <a:rPr b="1" i="1" lang="es-ES" sz="6000" spc="-1" strike="noStrike" u="sng">
                <a:solidFill>
                  <a:srgbClr val="009900"/>
                </a:solidFill>
                <a:uFillTx/>
                <a:latin typeface="Tahoma"/>
              </a:rPr>
              <a:t>POTASIO</a:t>
            </a:r>
            <a:r>
              <a:rPr b="1" lang="es-ES" sz="4000" spc="-1" strike="noStrike" u="sng">
                <a:solidFill>
                  <a:srgbClr val="009900"/>
                </a:solidFill>
                <a:uFillTx/>
                <a:latin typeface="Tahoma"/>
              </a:rPr>
              <a:t> </a:t>
            </a:r>
            <a:r>
              <a:rPr b="1" lang="es-ES" sz="4000" spc="-1" strike="noStrike">
                <a:solidFill>
                  <a:srgbClr val="009900"/>
                </a:solidFill>
                <a:latin typeface="Tahoma"/>
              </a:rPr>
              <a:t>Y DE </a:t>
            </a:r>
            <a:r>
              <a:rPr b="1" lang="es-ES" sz="4400" spc="-1" strike="noStrike">
                <a:solidFill>
                  <a:srgbClr val="009900"/>
                </a:solidFill>
                <a:latin typeface="Tahoma"/>
              </a:rPr>
              <a:t>LA </a:t>
            </a:r>
            <a:r>
              <a:rPr b="1" lang="es-ES" sz="4400" spc="-1" strike="noStrike" u="sng">
                <a:solidFill>
                  <a:srgbClr val="009900"/>
                </a:solidFill>
                <a:uFillTx/>
                <a:latin typeface="Tahoma"/>
              </a:rPr>
              <a:t>CONCENTRACIÓN</a:t>
            </a:r>
            <a:r>
              <a:rPr b="1" i="1" lang="es-ES" sz="4400" spc="-1" strike="noStrike">
                <a:solidFill>
                  <a:srgbClr val="009900"/>
                </a:solidFill>
                <a:latin typeface="Tahoma"/>
              </a:rPr>
              <a:t> DE </a:t>
            </a:r>
            <a:r>
              <a:rPr b="1" i="1" lang="es-ES" sz="6600" spc="-1" strike="noStrike" u="sng">
                <a:solidFill>
                  <a:srgbClr val="009900"/>
                </a:solidFill>
                <a:uFillTx/>
                <a:latin typeface="Tahoma"/>
              </a:rPr>
              <a:t>POTASIO</a:t>
            </a:r>
            <a:r>
              <a:rPr b="1" lang="es-ES" sz="6000" spc="-1" strike="noStrike" u="sng">
                <a:solidFill>
                  <a:srgbClr val="009900"/>
                </a:solidFill>
                <a:uFillTx/>
                <a:latin typeface="Tahoma"/>
              </a:rPr>
              <a:t> </a:t>
            </a:r>
            <a:endParaRPr b="0" lang="en-US" sz="60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s-ES" sz="4000" spc="-1" strike="noStrike">
                <a:solidFill>
                  <a:srgbClr val="009900"/>
                </a:solidFill>
                <a:latin typeface="Tahoma"/>
              </a:rPr>
              <a:t>EN EL LEC.</a:t>
            </a:r>
            <a:r>
              <a:rPr b="0" lang="es-ES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Normalmente, 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la concentración de K”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en el LEC es de 4.2mEq/lt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Una dificultad especial para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a regulación de la concentración de K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es que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alrededor del 98% de todo el K del cuerpo se encuentra en el interior de las células y sólo el otro 2% se halla en LEC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Si el K ingerido con la alimentación diaria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NO se elimin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rápidamente del LEC, puede producirse </a:t>
            </a: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una hiperpotasemia. 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Una pequeña pérdid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de K del LEC puede provocar una grave </a:t>
            </a: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hipopotasemia.</a:t>
            </a:r>
            <a:r>
              <a:rPr b="1" lang="es-ES" sz="3200" spc="-1" strike="noStrike">
                <a:solidFill>
                  <a:srgbClr val="b8ad4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55"/>
          <p:cNvPicPr/>
          <p:nvPr/>
        </p:nvPicPr>
        <p:blipFill>
          <a:blip r:embed="rId1"/>
          <a:stretch/>
        </p:blipFill>
        <p:spPr>
          <a:xfrm>
            <a:off x="828720" y="328680"/>
            <a:ext cx="7704000" cy="54054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468360" y="5805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Ingestión normal, distribución en los líquidos orgánicos y excreción de </a:t>
            </a:r>
            <a:r>
              <a:rPr b="1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POTAS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47"/>
          <p:cNvPicPr/>
          <p:nvPr/>
        </p:nvPicPr>
        <p:blipFill>
          <a:blip r:embed="rId1"/>
          <a:srcRect l="6024" t="0" r="0" b="0"/>
          <a:stretch/>
        </p:blipFill>
        <p:spPr>
          <a:xfrm>
            <a:off x="250920" y="1400040"/>
            <a:ext cx="8424720" cy="53420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611280" y="115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FACTORES QUE PUEDEN ALTERAR LA DISTRIBUCIÓN DE </a:t>
            </a:r>
            <a:r>
              <a:rPr b="1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POTASIO</a:t>
            </a:r>
            <a:r>
              <a:rPr b="1" i="1" lang="es-E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ENTRE EL LÍQUIDO INTRA Y EXTRACELULA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8531280" y="1592280"/>
            <a:ext cx="2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7921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Los riñones modifican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la excreción de sodio y agu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cambiando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la tasa de filtración, la reabsorción tubular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o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ambas,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Tanto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la Filtrac glom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como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la Reabsorc tubular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se regulan por 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las hormonas, la actividad simpática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y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la P/A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11280" y="44280"/>
            <a:ext cx="7920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“</a:t>
            </a:r>
            <a:r>
              <a:rPr b="1" i="1" lang="es-ES" sz="3600" spc="-1" strike="noStrike" u="sng">
                <a:solidFill>
                  <a:srgbClr val="6a4076"/>
                </a:solidFill>
                <a:uFillTx/>
                <a:latin typeface="Tahoma"/>
              </a:rPr>
              <a:t>La excreción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 de K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”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se regula principalmente por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600" spc="-1" strike="noStrike" u="sng">
                <a:solidFill>
                  <a:srgbClr val="003399"/>
                </a:solidFill>
                <a:uFillTx/>
                <a:latin typeface="Tahoma"/>
              </a:rPr>
              <a:t>secreción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 en los túbulos distales y colectores.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El mantenimiento del equilibrio del K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depende de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su excreción renal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ya que su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eliminació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por las heces sólo es de 5-10% del K que se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ingiere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00000" y="188640"/>
            <a:ext cx="7561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-</a:t>
            </a:r>
            <a:r>
              <a:rPr b="0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a excreción renal del K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depende de la suma de 3 procesos: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33520" indent="-533520" algn="just">
              <a:spcBef>
                <a:spcPts val="799"/>
              </a:spcBef>
              <a:buClr>
                <a:srgbClr val="6a407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9900"/>
                </a:solidFill>
                <a:latin typeface="Tahoma"/>
              </a:rPr>
              <a:t>la tasa de </a:t>
            </a:r>
            <a:r>
              <a:rPr b="0" i="1" lang="es-ES" sz="3200" spc="-1" strike="noStrike" u="sng">
                <a:solidFill>
                  <a:srgbClr val="ff9900"/>
                </a:solidFill>
                <a:uFillTx/>
                <a:latin typeface="Tahoma"/>
              </a:rPr>
              <a:t>filtración</a:t>
            </a:r>
            <a:r>
              <a:rPr b="0" i="1" lang="es-ES" sz="3200" spc="-1" strike="noStrike">
                <a:solidFill>
                  <a:srgbClr val="ff9900"/>
                </a:solidFill>
                <a:latin typeface="Tahoma"/>
              </a:rPr>
              <a:t> de K (TFG</a:t>
            </a:r>
            <a:r>
              <a:rPr b="0" lang="es-ES" sz="3200" spc="-1" strike="noStrike">
                <a:solidFill>
                  <a:srgbClr val="ff9900"/>
                </a:solidFill>
                <a:latin typeface="Tahoma"/>
              </a:rPr>
              <a:t>) multiplicada por </a:t>
            </a:r>
            <a:r>
              <a:rPr b="0" i="1" lang="es-ES" sz="3200" spc="-1" strike="noStrike">
                <a:solidFill>
                  <a:srgbClr val="ff9900"/>
                </a:solidFill>
                <a:latin typeface="Tahoma"/>
              </a:rPr>
              <a:t>la concentración plasmática de K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33520" indent="-533520" algn="just">
              <a:spcBef>
                <a:spcPts val="799"/>
              </a:spcBef>
              <a:buClr>
                <a:srgbClr val="6a407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9900"/>
                </a:solidFill>
                <a:latin typeface="Tahoma"/>
              </a:rPr>
              <a:t>la tasa de </a:t>
            </a:r>
            <a:r>
              <a:rPr b="0" i="1" lang="es-ES" sz="3200" spc="-1" strike="noStrike" u="sng">
                <a:solidFill>
                  <a:srgbClr val="ff9900"/>
                </a:solidFill>
                <a:uFillTx/>
                <a:latin typeface="Tahoma"/>
              </a:rPr>
              <a:t>reabsorción</a:t>
            </a:r>
            <a:r>
              <a:rPr b="0" i="1" lang="es-ES" sz="3200" spc="-1" strike="noStrike">
                <a:solidFill>
                  <a:srgbClr val="ff9900"/>
                </a:solidFill>
                <a:latin typeface="Tahoma"/>
              </a:rPr>
              <a:t> tubular de K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a4076"/>
                </a:solidFill>
                <a:latin typeface="Tahoma"/>
              </a:rPr>
              <a:t>3.    </a:t>
            </a:r>
            <a:r>
              <a:rPr b="0" i="1" lang="es-ES" sz="28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0" i="1" lang="es-ES" sz="3200" spc="-1" strike="noStrike">
                <a:solidFill>
                  <a:srgbClr val="ff9900"/>
                </a:solidFill>
                <a:latin typeface="Tahoma"/>
              </a:rPr>
              <a:t> tasa de </a:t>
            </a:r>
            <a:r>
              <a:rPr b="0" i="1" lang="es-ES" sz="3200" spc="-1" strike="noStrike" u="sng">
                <a:solidFill>
                  <a:srgbClr val="ff9900"/>
                </a:solidFill>
                <a:uFillTx/>
                <a:latin typeface="Tahoma"/>
              </a:rPr>
              <a:t>secreción</a:t>
            </a:r>
            <a:r>
              <a:rPr b="0" i="1" lang="es-ES" sz="3200" spc="-1" strike="noStrike">
                <a:solidFill>
                  <a:srgbClr val="ff9900"/>
                </a:solidFill>
                <a:latin typeface="Tahoma"/>
              </a:rPr>
              <a:t> tubular de K.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23"/>
          <p:cNvPicPr/>
          <p:nvPr/>
        </p:nvPicPr>
        <p:blipFill>
          <a:blip r:embed="rId1"/>
          <a:srcRect l="2360" t="0" r="3565" b="1523"/>
          <a:stretch/>
        </p:blipFill>
        <p:spPr>
          <a:xfrm>
            <a:off x="2124000" y="44280"/>
            <a:ext cx="4753080" cy="49690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179280" y="4941720"/>
            <a:ext cx="878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El potasio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se reabsorbe y se segrega.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K casi se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reabsorb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por completo en el túbulo proximal, pero bajo la influencia de la estimulación por la aldosterona es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 secretad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la porción cortical del túbulo colector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cc"/>
                </a:solidFill>
                <a:latin typeface="Tahoma"/>
              </a:rPr>
              <a:t>Todo el K de la orina</a:t>
            </a:r>
            <a:r>
              <a:rPr b="0" lang="es-ES" sz="1800" spc="-1" strike="noStrike">
                <a:solidFill>
                  <a:srgbClr val="0033cc"/>
                </a:solidFill>
                <a:latin typeface="Tahoma"/>
              </a:rPr>
              <a:t> procede de </a:t>
            </a:r>
            <a:r>
              <a:rPr b="1" i="1" lang="es-ES" sz="1800" spc="-1" strike="noStrike">
                <a:solidFill>
                  <a:srgbClr val="0033cc"/>
                </a:solidFill>
                <a:latin typeface="Tahoma"/>
              </a:rPr>
              <a:t>la secreció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y no de la filtración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Alrededor del 65% del K filtrado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se reabsorbe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en los túbulos proximales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y otro 25-30%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se reabsorbe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en el asa de Henle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Las variaciones normales de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i="1" lang="es-ES" sz="3600" spc="-1" strike="noStrike" u="sng">
                <a:solidFill>
                  <a:srgbClr val="6a4076"/>
                </a:solidFill>
                <a:uFillTx/>
                <a:latin typeface="Tahoma"/>
              </a:rPr>
              <a:t>la excreción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de K,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stán reguladas por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i="1" lang="es-ES" sz="3600" spc="-1" strike="noStrike" u="sng">
                <a:solidFill>
                  <a:srgbClr val="009900"/>
                </a:solidFill>
                <a:uFillTx/>
                <a:latin typeface="Tahoma"/>
              </a:rPr>
              <a:t>su secreción</a:t>
            </a:r>
            <a:r>
              <a:rPr b="0" i="1" lang="es-ES" sz="3200" spc="-1" strike="noStrike">
                <a:solidFill>
                  <a:srgbClr val="009900"/>
                </a:solidFill>
                <a:latin typeface="Tahoma"/>
              </a:rPr>
              <a:t> en los túbulos distales y colectores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y NO por las variaciones d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a filtración glomerular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o d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a reabsorción tubular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48"/>
          <p:cNvPicPr/>
          <p:nvPr/>
        </p:nvPicPr>
        <p:blipFill>
          <a:blip r:embed="rId1"/>
          <a:stretch/>
        </p:blipFill>
        <p:spPr>
          <a:xfrm>
            <a:off x="0" y="620640"/>
            <a:ext cx="7453440" cy="535644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4083120" y="9810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490920" y="13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4572000" y="24559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6084720" y="728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7843680" y="903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7033320" y="116064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6443640" y="4471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a4076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828720" y="2565360"/>
            <a:ext cx="251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*</a:t>
            </a:r>
            <a:r>
              <a:rPr b="1" lang="es-ES" sz="1800" spc="-1" strike="noStrike" u="sng">
                <a:solidFill>
                  <a:srgbClr val="003399"/>
                </a:solidFill>
                <a:uFillTx/>
                <a:latin typeface="Tahoma"/>
              </a:rPr>
              <a:t>Reabsorbe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Tahoma"/>
              </a:rPr>
              <a:t>(túbulos proximales y Asa de Henle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7523280" y="1268280"/>
            <a:ext cx="172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9900"/>
                </a:solidFill>
                <a:latin typeface="Tahoma"/>
              </a:rPr>
              <a:t>*</a:t>
            </a:r>
            <a:r>
              <a:rPr b="1" lang="es-ES" sz="1800" spc="-1" strike="noStrike" u="sng">
                <a:solidFill>
                  <a:srgbClr val="009900"/>
                </a:solidFill>
                <a:uFillTx/>
                <a:latin typeface="Tahoma"/>
              </a:rPr>
              <a:t>Secreción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Tahoma"/>
              </a:rPr>
              <a:t>(ùltima porc. de túbulos distal y colector cortical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7000920" y="443088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a4076"/>
                </a:solidFill>
                <a:latin typeface="Tahoma"/>
              </a:rPr>
              <a:t>* </a:t>
            </a:r>
            <a:r>
              <a:rPr b="1" lang="es-ES" sz="1800" spc="-1" strike="noStrike" u="sng">
                <a:solidFill>
                  <a:srgbClr val="6a4076"/>
                </a:solidFill>
                <a:uFillTx/>
                <a:latin typeface="Tahoma"/>
              </a:rPr>
              <a:t>Excret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79280" y="6010200"/>
            <a:ext cx="896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Localización d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la reabsorción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y de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la secreción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 de K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en los túbulos renale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39280" y="263844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1" i="1" lang="es-ES" sz="32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i="1" lang="es-ES" sz="3200" spc="-1" strike="noStrike" u="sng">
                <a:solidFill>
                  <a:srgbClr val="009900"/>
                </a:solidFill>
                <a:uFillTx/>
                <a:latin typeface="Tahoma"/>
              </a:rPr>
              <a:t>La secreción de K</a:t>
            </a:r>
            <a:r>
              <a:rPr b="1" i="1" lang="es-ES" sz="3200" spc="-1" strike="noStrike">
                <a:solidFill>
                  <a:srgbClr val="009900"/>
                </a:solidFill>
                <a:latin typeface="Tahoma"/>
              </a:rPr>
              <a:t>”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se produce en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“las células principales”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de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porción final de los túbulos distales y en los túbulos colectores corticales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95280" y="406080"/>
            <a:ext cx="8353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La secreción de K</a:t>
            </a:r>
            <a:r>
              <a:rPr b="1" i="1" lang="es-E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desde</a:t>
            </a:r>
            <a:r>
              <a:rPr b="1" i="1" lang="es-ES" sz="2800" spc="-1" strike="noStrike">
                <a:solidFill>
                  <a:srgbClr val="009900"/>
                </a:solidFill>
                <a:latin typeface="Tahoma"/>
              </a:rPr>
              <a:t> los capilares peritubulares 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hacia </a:t>
            </a:r>
            <a:r>
              <a:rPr b="1" i="1" lang="es-ES" sz="2800" spc="-1" strike="noStrike">
                <a:solidFill>
                  <a:srgbClr val="009900"/>
                </a:solidFill>
                <a:latin typeface="Tahoma"/>
              </a:rPr>
              <a:t>la luz de los túbulos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, 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es un proceso que ocurre en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 3 etapas que comprenden: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la difusión pasiva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del K desde la sangre hacia el intersticio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el transporte activo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del K desde el intersticio hacia el interior de las células mediante la bomba ATPasa de Na-K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la difusión pasiva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del K desde las células hacia el líquido tubular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49"/>
          <p:cNvPicPr/>
          <p:nvPr/>
        </p:nvPicPr>
        <p:blipFill>
          <a:blip r:embed="rId1"/>
          <a:stretch/>
        </p:blipFill>
        <p:spPr>
          <a:xfrm>
            <a:off x="1260360" y="155520"/>
            <a:ext cx="6767640" cy="55054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250920" y="558972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Mecanismos de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Tahoma"/>
              </a:rPr>
              <a:t>Secreción de K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+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y de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Reabsorción de Na+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en </a:t>
            </a:r>
            <a:r>
              <a:rPr b="1" lang="es-ES" sz="1800" spc="-1" strike="noStrike" u="sng">
                <a:solidFill>
                  <a:srgbClr val="003399"/>
                </a:solidFill>
                <a:uFillTx/>
                <a:latin typeface="Tahoma"/>
              </a:rPr>
              <a:t>las células principales</a:t>
            </a: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 de </a:t>
            </a:r>
            <a:r>
              <a:rPr b="1" i="1" lang="es-ES" sz="1800" spc="-1" strike="noStrike">
                <a:solidFill>
                  <a:srgbClr val="003399"/>
                </a:solidFill>
                <a:latin typeface="Tahoma"/>
              </a:rPr>
              <a:t>los túbulos distales finales y de los colectores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26"/>
          <p:cNvPicPr/>
          <p:nvPr/>
        </p:nvPicPr>
        <p:blipFill>
          <a:blip r:embed="rId1"/>
          <a:stretch/>
        </p:blipFill>
        <p:spPr>
          <a:xfrm>
            <a:off x="250920" y="-100080"/>
            <a:ext cx="8675640" cy="53625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179280" y="5084640"/>
            <a:ext cx="871380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Reabsorción de Na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33cc"/>
                </a:solidFill>
                <a:latin typeface="Tahoma"/>
              </a:rPr>
              <a:t>y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secreción de K.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33cc"/>
                </a:solidFill>
                <a:uFillTx/>
                <a:latin typeface="Tahoma"/>
              </a:rPr>
              <a:t>En </a:t>
            </a:r>
            <a:r>
              <a:rPr b="0" i="1" lang="es-ES" sz="1600" spc="-1" strike="noStrike" u="sng">
                <a:solidFill>
                  <a:srgbClr val="0033cc"/>
                </a:solidFill>
                <a:uFillTx/>
                <a:latin typeface="Tahoma"/>
              </a:rPr>
              <a:t>el túbulo distal</a:t>
            </a:r>
            <a:r>
              <a:rPr b="0" lang="es-ES" sz="1600" spc="-1" strike="noStrike" u="sng">
                <a:solidFill>
                  <a:srgbClr val="0033cc"/>
                </a:solidFill>
                <a:uFillTx/>
                <a:latin typeface="Tahoma"/>
              </a:rPr>
              <a:t>, el K+</a:t>
            </a:r>
            <a:r>
              <a:rPr b="0" lang="es-ES" sz="1600" spc="-1" strike="noStrike">
                <a:solidFill>
                  <a:srgbClr val="0033cc"/>
                </a:solidFill>
                <a:latin typeface="Tahoma"/>
              </a:rPr>
              <a:t> y el H+ son segregados en respuesta a la diferencia de potencial producida por </a:t>
            </a:r>
            <a:r>
              <a:rPr b="1" i="1" lang="es-ES" sz="1600" spc="-1" strike="noStrike">
                <a:solidFill>
                  <a:srgbClr val="000000"/>
                </a:solidFill>
                <a:latin typeface="Tahoma"/>
              </a:rPr>
              <a:t>la reabsorción de Na+.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cc"/>
                </a:solidFill>
                <a:latin typeface="Tahoma"/>
              </a:rPr>
              <a:t>Las concentraciones elevadas de H+ pueden reducir , por lo tanto </a:t>
            </a:r>
            <a:r>
              <a:rPr b="1" i="1" lang="es-ES" sz="1600" spc="-1" strike="noStrike">
                <a:solidFill>
                  <a:srgbClr val="ff0000"/>
                </a:solidFill>
                <a:latin typeface="Tahoma"/>
              </a:rPr>
              <a:t>la secreción de K+,</a:t>
            </a:r>
            <a:r>
              <a:rPr b="0" lang="es-ES" sz="1600" spc="-1" strike="noStrike">
                <a:solidFill>
                  <a:srgbClr val="0033cc"/>
                </a:solidFill>
                <a:latin typeface="Tahoma"/>
              </a:rPr>
              <a:t> y viceversa.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8ad48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Los factores principales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que intervienen en </a:t>
            </a:r>
            <a:r>
              <a:rPr b="1" lang="es-ES" sz="36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i="1" lang="es-ES" sz="3600" spc="-1" strike="noStrike">
                <a:solidFill>
                  <a:srgbClr val="009900"/>
                </a:solidFill>
                <a:latin typeface="Tahoma"/>
              </a:rPr>
              <a:t>la secreción de K”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por parte de “</a:t>
            </a:r>
            <a:r>
              <a:rPr b="1" i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las células principales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”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son: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Incremento de la concentración extracelular de K</a:t>
            </a: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, aumenta la secreción de K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Incremento de la secreción de aldosterona</a:t>
            </a: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, aumenta la secreción de K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Incremento del flujo tubular</a:t>
            </a: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, aumenta la secreción de K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3399"/>
                </a:solidFill>
                <a:uFillTx/>
                <a:latin typeface="Tahoma"/>
              </a:rPr>
              <a:t>Incremento agudo de la concentración de iones hidrógeno (acidosis</a:t>
            </a:r>
            <a:r>
              <a:rPr b="0" lang="es-ES" sz="2400" spc="-1" strike="noStrike">
                <a:solidFill>
                  <a:srgbClr val="003399"/>
                </a:solidFill>
                <a:latin typeface="Tahoma"/>
              </a:rPr>
              <a:t>), reduce la secreción de K.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4920" y="898560"/>
            <a:ext cx="820908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 condiciones normales,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la tasa de filtrac glom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(TFG)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s de 180 lts/día,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la reabsorción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tubular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s de 178.5 lts/día, y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la excreción de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orin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es de 1.5 lts/día;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*por tanto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pequeñas variaciones de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Tahoma"/>
              </a:rPr>
              <a:t>la TFG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Tahoma"/>
              </a:rPr>
              <a:t>de la reabsorc tubular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eden producir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grandes cambios de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excreción renal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-100080"/>
            <a:ext cx="820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El mecanismo hormonal  principal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de regulación de </a:t>
            </a:r>
            <a:r>
              <a:rPr b="1" i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la concentración de K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es el de </a:t>
            </a:r>
            <a:r>
              <a:rPr b="1" i="1" lang="es-ES" sz="3200" spc="-1" strike="noStrike">
                <a:solidFill>
                  <a:srgbClr val="b8ad48"/>
                </a:solidFill>
                <a:latin typeface="Tahoma"/>
              </a:rPr>
              <a:t>la aldosterona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Hay un efecto directo de retroacción entre 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la aldosteron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y </a:t>
            </a:r>
            <a:r>
              <a:rPr b="0" i="1" lang="es-ES" sz="3200" spc="-1" strike="noStrike">
                <a:solidFill>
                  <a:srgbClr val="b8ad48"/>
                </a:solidFill>
                <a:latin typeface="Tahoma"/>
              </a:rPr>
              <a:t>el K.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8ad48"/>
                </a:solidFill>
                <a:latin typeface="Tahoma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Tahoma"/>
              </a:rPr>
              <a:t>*Siempre que la concentración de K en el LEC </a:t>
            </a: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aumenta</a:t>
            </a:r>
            <a:r>
              <a:rPr b="1" i="1" lang="es-ES" sz="2800" spc="-1" strike="noStrike">
                <a:solidFill>
                  <a:srgbClr val="ff0000"/>
                </a:solidFill>
                <a:latin typeface="Tahoma"/>
              </a:rPr>
              <a:t> por encima de lo normal</a:t>
            </a:r>
            <a:r>
              <a:rPr b="1" i="1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se estimula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la secreción de aldosterona,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que hace que aumente la excreción renal de K, hasta que la concentración extracelular de éste se normaliza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ahoma"/>
              </a:rPr>
              <a:t>*Cuando la concentración de K es </a:t>
            </a: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demasiada baja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sucede lo contrario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50"/>
          <p:cNvPicPr/>
          <p:nvPr/>
        </p:nvPicPr>
        <p:blipFill>
          <a:blip r:embed="rId1"/>
          <a:stretch/>
        </p:blipFill>
        <p:spPr>
          <a:xfrm>
            <a:off x="468360" y="54000"/>
            <a:ext cx="8280360" cy="5535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250920" y="5734080"/>
            <a:ext cx="86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Tahoma"/>
              </a:rPr>
              <a:t>Mecanismo básico de Retroacción 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</a:rPr>
              <a:t>para el control por la: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ALDOSTERONA 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</a:rPr>
              <a:t>de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la concentración de K+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en el LEC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1374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CONTROL DE </a:t>
            </a:r>
            <a:r>
              <a:rPr b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LA EXCRECIÓN RENAL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 DE </a:t>
            </a:r>
            <a:r>
              <a:rPr b="1" i="1" lang="es-ES" sz="4800" spc="-1" strike="noStrike" u="sng">
                <a:solidFill>
                  <a:srgbClr val="009900"/>
                </a:solidFill>
                <a:uFillTx/>
                <a:latin typeface="Tahoma"/>
              </a:rPr>
              <a:t>CALCIO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 Y </a:t>
            </a:r>
            <a:r>
              <a:rPr b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CONCENTRACIÓN 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DE</a:t>
            </a:r>
            <a:r>
              <a:rPr b="1" i="1" lang="es-E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i="1" lang="es-ES" sz="4000" spc="-1" strike="noStrike" u="sng">
                <a:solidFill>
                  <a:srgbClr val="009900"/>
                </a:solidFill>
                <a:uFillTx/>
                <a:latin typeface="Tahoma"/>
              </a:rPr>
              <a:t>ION </a:t>
            </a:r>
            <a:r>
              <a:rPr b="1" i="1" lang="es-ES" sz="4800" spc="-1" strike="noStrike" u="sng">
                <a:solidFill>
                  <a:srgbClr val="009900"/>
                </a:solidFill>
                <a:uFillTx/>
                <a:latin typeface="Tahoma"/>
              </a:rPr>
              <a:t>CALCIO</a:t>
            </a:r>
            <a:r>
              <a:rPr b="1" i="1" lang="es-ES" sz="4000" spc="-1" strike="noStrike" u="sng">
                <a:solidFill>
                  <a:srgbClr val="009900"/>
                </a:solidFill>
                <a:uFillTx/>
                <a:latin typeface="Tahoma"/>
              </a:rPr>
              <a:t> EXTRACELULAR. 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La ingestión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calcio debe equilibrarse con 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sus pérdidas netas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ran parte de 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la excreción de calci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se produce en </a:t>
            </a:r>
            <a:r>
              <a:rPr b="0" i="1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las heces</a:t>
            </a:r>
            <a:r>
              <a:rPr b="0" i="1" lang="es-ES" sz="28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lmente, sólo el 10% de calcio que se ingiere 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se absorb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0" i="1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el intestin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, mientras que el resto 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se 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elimin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0" i="1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las heces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S23283-035-f016a"/>
          <p:cNvPicPr/>
          <p:nvPr/>
        </p:nvPicPr>
        <p:blipFill>
          <a:blip r:embed="rId1"/>
          <a:stretch/>
        </p:blipFill>
        <p:spPr>
          <a:xfrm>
            <a:off x="1835280" y="0"/>
            <a:ext cx="5537160" cy="56577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971640" y="58770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4400" spc="-1" strike="noStrike" u="sng">
                <a:solidFill>
                  <a:srgbClr val="ff0000"/>
                </a:solidFill>
                <a:uFillTx/>
                <a:latin typeface="Tahoma"/>
              </a:rPr>
              <a:t>calcio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por la nefrona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i todo el calcio del cuerpo (el 99%) está almacenado en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os hueso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, y sólo el 1% se encuentra en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el LIC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y un 0.1% en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el LEC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os huesos</a:t>
            </a: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 actúan como grandes reservorios para el almacenamiento de Ca y como fuentes de éste cuando su concentración en el LEC tiende a disminuir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(hipocalcemia)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10920" y="2492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Uno de los reguladores más importantes de</a:t>
            </a:r>
            <a:r>
              <a:rPr b="1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600" spc="-1" strike="noStrike">
                <a:solidFill>
                  <a:srgbClr val="003399"/>
                </a:solidFill>
                <a:latin typeface="Tahoma"/>
              </a:rPr>
              <a:t>la captación y la liberación de Ca por los huesos</a:t>
            </a:r>
            <a:r>
              <a:rPr b="1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1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600" spc="-1" strike="noStrike">
                <a:solidFill>
                  <a:srgbClr val="ff0000"/>
                </a:solidFill>
                <a:latin typeface="Tahoma"/>
              </a:rPr>
              <a:t>la hormona paratiroidea (PTH)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a disminución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de la concentración de Ca en el LEC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voc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el </a:t>
            </a:r>
            <a:r>
              <a:rPr b="0" i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 de la secreción de PTH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que actúa sobre los huesos </a:t>
            </a: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aumentando la resorción de las sales de los hueso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(liberación de las sales de los huesos) de manera que llegan al LEC grandes cantidades de Ca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94920" y="2017440"/>
            <a:ext cx="820908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a4076"/>
                </a:solidFill>
                <a:latin typeface="Tahoma"/>
              </a:rPr>
              <a:t>*Cuando la concentración de Ca </a:t>
            </a:r>
            <a:r>
              <a:rPr b="1" i="1" lang="es-ES" sz="3600" spc="-1" strike="noStrike" u="sng">
                <a:solidFill>
                  <a:srgbClr val="6a4076"/>
                </a:solidFill>
                <a:uFillTx/>
                <a:latin typeface="Tahoma"/>
              </a:rPr>
              <a:t>es elevada</a:t>
            </a:r>
            <a:r>
              <a:rPr b="1" lang="es-ES" sz="3600" spc="-1" strike="noStrike">
                <a:solidFill>
                  <a:srgbClr val="6a4076"/>
                </a:solidFill>
                <a:latin typeface="Tahoma"/>
              </a:rPr>
              <a:t> (hipercalcemia)</a:t>
            </a:r>
            <a:r>
              <a:rPr b="1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6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i="1" lang="es-E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ES" sz="3600" spc="-1" strike="noStrike">
                <a:solidFill>
                  <a:srgbClr val="ff0000"/>
                </a:solidFill>
                <a:latin typeface="Tahoma"/>
              </a:rPr>
              <a:t>la secreción de PTH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y el exceso de Ca se deposita en los huesos gracias a la formación de hueso nuevo.</a:t>
            </a:r>
            <a:r>
              <a:rPr b="0" lang="es-ES" sz="36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Los hueso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NO son una fuente inagotable de Calcio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 largo plazo, 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la ingestión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de calcio debe estar equilibrada con 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la excreción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del mismo por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el tracto GI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y por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os riñones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regulador más importante de la reabsorción de Ca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en ambos lugare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es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la PTH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42720" y="188640"/>
            <a:ext cx="779292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i="1" lang="es-ES" sz="2800" spc="-1" strike="noStrike">
                <a:solidFill>
                  <a:srgbClr val="ff0000"/>
                </a:solidFill>
                <a:latin typeface="Tahoma"/>
              </a:rPr>
              <a:t>La PTH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regula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i="1" lang="es-ES" sz="3600" spc="-1" strike="noStrike" u="sng">
                <a:solidFill>
                  <a:srgbClr val="6a4076"/>
                </a:solidFill>
                <a:uFillTx/>
                <a:latin typeface="Tahoma"/>
              </a:rPr>
              <a:t>la concentración plasmática de Ca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por medio de 3 efectos principales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Estimulación de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resorción ósea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Estimulación de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activación de la Vit D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, a su vez,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incrementa la absorción intestinal de Ca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Incremento directo de </a:t>
            </a:r>
            <a:r>
              <a:rPr b="0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reabsorción tubular de Ca.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4360" y="2205000"/>
            <a:ext cx="77752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ando se produce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alteraciones de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la TFG y de la reabsorción tubular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, </a:t>
            </a:r>
            <a:r>
              <a:rPr b="1" lang="es-ES" sz="3200" spc="-1" strike="noStrike">
                <a:solidFill>
                  <a:srgbClr val="003399"/>
                </a:solidFill>
                <a:latin typeface="Tahoma"/>
              </a:rPr>
              <a:t>los cambios de la excreción urinari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se reducen al mínimo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debido a la existencia de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“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diversos mecanismos</a:t>
            </a:r>
            <a:r>
              <a:rPr b="0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amortiguadores</a:t>
            </a:r>
            <a:r>
              <a:rPr b="0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”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53"/>
          <p:cNvPicPr/>
          <p:nvPr/>
        </p:nvPicPr>
        <p:blipFill>
          <a:blip r:embed="rId1"/>
          <a:stretch/>
        </p:blipFill>
        <p:spPr>
          <a:xfrm>
            <a:off x="539640" y="44280"/>
            <a:ext cx="8353440" cy="5362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179280" y="5445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Respuestas compensadoras mediadas por </a:t>
            </a: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la hormona paratiroidea</a:t>
            </a:r>
            <a:r>
              <a:rPr b="1" i="1" lang="es-ES" sz="2800" spc="-1" strike="noStrike">
                <a:solidFill>
                  <a:srgbClr val="ff0000"/>
                </a:solidFill>
                <a:latin typeface="Tahoma"/>
              </a:rPr>
              <a:t> (PTH)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y por </a:t>
            </a:r>
            <a:r>
              <a:rPr b="1" lang="es-ES" sz="2400" spc="-1" strike="noStrike">
                <a:solidFill>
                  <a:srgbClr val="ff0066"/>
                </a:solidFill>
                <a:latin typeface="Tahoma"/>
              </a:rPr>
              <a:t>la vitamina D</a:t>
            </a:r>
            <a:r>
              <a:rPr b="1" lang="es-ES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frente a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la disminución de la concentración plasmática del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calcio iónico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4427640" y="263700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4427640" y="2565360"/>
            <a:ext cx="504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4788000" y="2637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4356000" y="2565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4211640" y="2492280"/>
            <a:ext cx="79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64200" y="2630520"/>
            <a:ext cx="66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4356000" y="2565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Tahoma"/>
              </a:rPr>
              <a:t>PTH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0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La PTH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también controla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i="1" lang="es-ES" sz="3600" spc="-1" strike="noStrike" u="sng">
                <a:solidFill>
                  <a:srgbClr val="6a4076"/>
                </a:solidFill>
                <a:uFillTx/>
                <a:latin typeface="Tahoma"/>
              </a:rPr>
              <a:t>la excreción renal de calcio.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ahoma"/>
              </a:rPr>
              <a:t>Los túbulos renales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NO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segrega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calcio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y, por consiguient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a tasa de excreció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de éste depende de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tasa de filtració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y </a:t>
            </a:r>
            <a:r>
              <a:rPr b="1" i="1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de la reabsorción tubular del mismo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Uno de los principales controladores d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la reabsorción tubular de calcio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es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la PTH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S23283-035-f016b"/>
          <p:cNvPicPr/>
          <p:nvPr/>
        </p:nvPicPr>
        <p:blipFill>
          <a:blip r:embed="rId1"/>
          <a:stretch/>
        </p:blipFill>
        <p:spPr>
          <a:xfrm>
            <a:off x="1979640" y="189000"/>
            <a:ext cx="5549760" cy="55195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324000" y="59450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4000" spc="-1" strike="noStrike" u="sng">
                <a:solidFill>
                  <a:srgbClr val="ff0000"/>
                </a:solidFill>
                <a:uFillTx/>
                <a:latin typeface="Tahoma"/>
              </a:rPr>
              <a:t>calcio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por túbulo proxima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S23283-035-f016d"/>
          <p:cNvPicPr/>
          <p:nvPr/>
        </p:nvPicPr>
        <p:blipFill>
          <a:blip r:embed="rId1"/>
          <a:stretch/>
        </p:blipFill>
        <p:spPr>
          <a:xfrm>
            <a:off x="1835280" y="189000"/>
            <a:ext cx="5905440" cy="5438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"/>
          <p:cNvSpPr/>
          <p:nvPr/>
        </p:nvSpPr>
        <p:spPr>
          <a:xfrm>
            <a:off x="755640" y="5967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4000" spc="-1" strike="noStrike" u="sng">
                <a:solidFill>
                  <a:srgbClr val="ff0000"/>
                </a:solidFill>
                <a:uFillTx/>
                <a:latin typeface="Tahoma"/>
              </a:rPr>
              <a:t>calcio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por el túbulo dista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54"/>
          <p:cNvPicPr/>
          <p:nvPr/>
        </p:nvPicPr>
        <p:blipFill>
          <a:blip r:embed="rId1"/>
          <a:srcRect l="0" t="0" r="0" b="6059"/>
          <a:stretch/>
        </p:blipFill>
        <p:spPr>
          <a:xfrm>
            <a:off x="179280" y="1276200"/>
            <a:ext cx="882036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REGULACIÓN DE </a:t>
            </a:r>
            <a:r>
              <a:rPr b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LA EXCRECIÓN RENAL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 DE </a:t>
            </a:r>
            <a:r>
              <a:rPr b="1" i="1" lang="es-ES" sz="5400" spc="-1" strike="noStrike" u="sng">
                <a:solidFill>
                  <a:srgbClr val="009900"/>
                </a:solidFill>
                <a:uFillTx/>
                <a:latin typeface="Tahoma"/>
              </a:rPr>
              <a:t>FOSFATO.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La excreción</a:t>
            </a:r>
            <a:r>
              <a:rPr b="1" lang="es-ES" sz="2800" spc="-1" strike="noStrike">
                <a:solidFill>
                  <a:srgbClr val="003399"/>
                </a:solidFill>
                <a:latin typeface="Tahoma"/>
              </a:rPr>
              <a:t> de </a:t>
            </a:r>
            <a:r>
              <a:rPr b="1" i="1" lang="es-ES" sz="2800" spc="-1" strike="noStrike" u="sng">
                <a:solidFill>
                  <a:srgbClr val="003399"/>
                </a:solidFill>
                <a:uFillTx/>
                <a:latin typeface="Tahoma"/>
              </a:rPr>
              <a:t>fosfato</a:t>
            </a:r>
            <a:r>
              <a:rPr b="1" lang="es-ES" sz="2800" spc="-1" strike="noStrike">
                <a:solidFill>
                  <a:srgbClr val="003399"/>
                </a:solidFill>
                <a:latin typeface="Tahoma"/>
              </a:rPr>
              <a:t> por los riñones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a controlada por: 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Los túbulos renale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tienen un transporte máximo normal para la reabsorción  de fosfato de 0.1mM/min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Cuando la cantidad de fosfato presente en 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el filtrado glom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es inferior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a ésta </a:t>
            </a:r>
            <a:r>
              <a:rPr b="1" i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se reabsorbe</a:t>
            </a:r>
            <a:r>
              <a:rPr b="0" i="1" lang="es-ES" sz="2800" spc="-1" strike="noStrike">
                <a:solidFill>
                  <a:srgbClr val="009900"/>
                </a:solidFill>
                <a:latin typeface="Tahoma"/>
              </a:rPr>
              <a:t> todo el fosfato filtrado. 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Cuando la cantidad 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es superior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009900"/>
                </a:solidFill>
                <a:latin typeface="Tahoma"/>
              </a:rPr>
              <a:t>el exceso </a:t>
            </a:r>
            <a:r>
              <a:rPr b="1" i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se excreta.</a:t>
            </a:r>
            <a:r>
              <a:rPr b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7632720" cy="58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La PTH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desempeña un papel en la regulación de 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la concentración de</a:t>
            </a: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fosfato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a través de 2 efectos: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La PTH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 favorece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la resorción ósea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La PTH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reduce </a:t>
            </a:r>
            <a:r>
              <a:rPr b="0" lang="es-ES" sz="3200" spc="-1" strike="noStrike" u="sng">
                <a:solidFill>
                  <a:srgbClr val="003399"/>
                </a:solidFill>
                <a:uFillTx/>
                <a:latin typeface="Tahoma"/>
              </a:rPr>
              <a:t>el transporte fosfato en el túbulo renal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S23283-035-f014a"/>
          <p:cNvPicPr/>
          <p:nvPr/>
        </p:nvPicPr>
        <p:blipFill>
          <a:blip r:embed="rId1"/>
          <a:stretch/>
        </p:blipFill>
        <p:spPr>
          <a:xfrm>
            <a:off x="2411280" y="189000"/>
            <a:ext cx="4395960" cy="55562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324000" y="595008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4400" spc="-1" strike="noStrike" u="sng">
                <a:solidFill>
                  <a:srgbClr val="ff0000"/>
                </a:solidFill>
                <a:uFillTx/>
                <a:latin typeface="Tahoma"/>
              </a:rPr>
              <a:t>fosfato</a:t>
            </a:r>
            <a:r>
              <a:rPr b="1" lang="es-E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por la nefrona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S23283-035-f014b"/>
          <p:cNvPicPr/>
          <p:nvPr/>
        </p:nvPicPr>
        <p:blipFill>
          <a:blip r:embed="rId1"/>
          <a:stretch/>
        </p:blipFill>
        <p:spPr>
          <a:xfrm>
            <a:off x="1692360" y="404640"/>
            <a:ext cx="6134040" cy="54896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"/>
          <p:cNvSpPr/>
          <p:nvPr/>
        </p:nvSpPr>
        <p:spPr>
          <a:xfrm>
            <a:off x="539640" y="6021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3600" spc="-1" strike="noStrike" u="sng">
                <a:solidFill>
                  <a:srgbClr val="ff0000"/>
                </a:solidFill>
                <a:uFillTx/>
                <a:latin typeface="Tahoma"/>
              </a:rPr>
              <a:t>fosfato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por el túbulo proxima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3823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CONTROL DE </a:t>
            </a:r>
            <a:r>
              <a:rPr b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LA EXCRECIÓN RENAL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 DE </a:t>
            </a:r>
            <a:r>
              <a:rPr b="1" i="1" lang="es-ES" sz="4400" spc="-1" strike="noStrike" u="sng">
                <a:solidFill>
                  <a:srgbClr val="009900"/>
                </a:solidFill>
                <a:uFillTx/>
                <a:latin typeface="Tahoma"/>
              </a:rPr>
              <a:t>MAGNESIO</a:t>
            </a:r>
            <a:r>
              <a:rPr b="1" i="1" lang="es-ES" sz="3600" spc="-1" strike="noStrike" u="sng">
                <a:solidFill>
                  <a:srgbClr val="009900"/>
                </a:solidFill>
                <a:uFillTx/>
                <a:latin typeface="Tahoma"/>
              </a:rPr>
              <a:t> 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Y DE </a:t>
            </a:r>
            <a:r>
              <a:rPr b="1" lang="es-ES" sz="2800" spc="-1" strike="noStrike" u="sng">
                <a:solidFill>
                  <a:srgbClr val="009900"/>
                </a:solidFill>
                <a:uFillTx/>
                <a:latin typeface="Tahoma"/>
              </a:rPr>
              <a:t>LA CONCENTRACIÓN EXTRACELULAR</a:t>
            </a:r>
            <a:r>
              <a:rPr b="1" lang="es-ES" sz="2800" spc="-1" strike="noStrike">
                <a:solidFill>
                  <a:srgbClr val="009900"/>
                </a:solidFill>
                <a:latin typeface="Tahoma"/>
              </a:rPr>
              <a:t> DE </a:t>
            </a:r>
            <a:r>
              <a:rPr b="1" i="1" lang="es-ES" sz="4000" spc="-1" strike="noStrike" u="sng">
                <a:solidFill>
                  <a:srgbClr val="009900"/>
                </a:solidFill>
                <a:uFillTx/>
                <a:latin typeface="Tahoma"/>
              </a:rPr>
              <a:t>ION </a:t>
            </a:r>
            <a:r>
              <a:rPr b="1" i="1" lang="es-ES" sz="4400" spc="-1" strike="noStrike" u="sng">
                <a:solidFill>
                  <a:srgbClr val="009900"/>
                </a:solidFill>
                <a:uFillTx/>
                <a:latin typeface="Tahoma"/>
              </a:rPr>
              <a:t>MAGNESIO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78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Más de la mita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del </a:t>
            </a:r>
            <a:r>
              <a:rPr b="1" i="1" lang="es-ES" sz="2800" spc="-1" strike="noStrike">
                <a:solidFill>
                  <a:srgbClr val="6a4076"/>
                </a:solidFill>
                <a:latin typeface="Tahoma"/>
              </a:rPr>
              <a:t>magnesio orgánico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   encuentra en </a:t>
            </a:r>
            <a:r>
              <a:rPr b="0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los hueso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12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del rest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el mayor %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stá </a:t>
            </a:r>
            <a:r>
              <a:rPr b="0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dentro de las célula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12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menos del 1%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0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el LEC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12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12120" indent="-312120" algn="just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concentración plasmática total de magnesio es de 1.8 mEq/L, mas de la mitad esta unido a </a:t>
            </a:r>
            <a:r>
              <a:rPr b="0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proteínas plasmáticas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12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12120" indent="-312120" algn="just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La concentrac de Mg iónico lib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s de 0.8mEq/L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395280" y="2970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el equilibrio glomerulotubular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que permite que los túbulos renales aumenten su tasa de reabsorción en respuesta al incremento de la TFG y a la carga de Na filtrada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a retroacción de la mácula densa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l aumento del suministro de NaCl a los túbulos distales, debido al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de TFG o la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de la reabsorción de Na en los túbulos proximales o en la asa de Henle, produce la constricción de las arteriolas aferentes y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TFG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064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La ingestión diaria norma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de Mg es de 250-300 mg día, pero solo la mitad </a:t>
            </a:r>
            <a:r>
              <a:rPr b="0" i="1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se absorb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a través del </a:t>
            </a:r>
            <a:r>
              <a:rPr b="0" lang="es-ES" sz="2800" spc="-1" strike="noStrike">
                <a:solidFill>
                  <a:srgbClr val="0033cc"/>
                </a:solidFill>
                <a:latin typeface="Tahoma"/>
              </a:rPr>
              <a:t>G.I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mantener el equilibrio del Mg los riñones deben excretar la mitad de la ingestión diaria (125-150 Mg/día.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Los riñones excretan normalment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tre un 10 y 15% de Mg en el filtrado glomerular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33cc"/>
                </a:solidFill>
                <a:uFillTx/>
                <a:latin typeface="Tahoma"/>
              </a:rPr>
              <a:t>La excreción renal de Mg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puede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aumentar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cuando existe 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un exceso del ion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ahoma"/>
              </a:rPr>
              <a:t>disminuir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a cero, </a:t>
            </a:r>
            <a:r>
              <a:rPr b="0" i="1" lang="es-ES" sz="2800" spc="-1" strike="noStrike">
                <a:solidFill>
                  <a:srgbClr val="ff0000"/>
                </a:solidFill>
                <a:latin typeface="Tahoma"/>
              </a:rPr>
              <a:t>en caso de carencia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08000" y="44280"/>
            <a:ext cx="89647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   </a:t>
            </a:r>
            <a:r>
              <a:rPr b="1" lang="es-ES" sz="2800" spc="-1" strike="noStrike">
                <a:solidFill>
                  <a:srgbClr val="6a4076"/>
                </a:solidFill>
                <a:latin typeface="Tahoma"/>
              </a:rPr>
              <a:t>La regulación de </a:t>
            </a:r>
            <a:r>
              <a:rPr b="1" i="1" lang="es-ES" sz="2800" spc="-1" strike="noStrike" u="sng">
                <a:solidFill>
                  <a:srgbClr val="6a4076"/>
                </a:solidFill>
                <a:uFillTx/>
                <a:latin typeface="Tahoma"/>
              </a:rPr>
              <a:t>la excreción de Mg</a:t>
            </a:r>
            <a:r>
              <a:rPr b="0" lang="es-ES" sz="28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localiza mediante </a:t>
            </a:r>
            <a:r>
              <a:rPr b="1" i="1" lang="es-ES" sz="2800" spc="-1" strike="noStrike" u="sng">
                <a:solidFill>
                  <a:srgbClr val="ff9900"/>
                </a:solidFill>
                <a:uFillTx/>
                <a:latin typeface="Tahoma"/>
              </a:rPr>
              <a:t>cambios de </a:t>
            </a:r>
            <a:r>
              <a:rPr b="1" i="1" lang="es-ES" sz="3200" spc="-1" strike="noStrike" u="sng">
                <a:solidFill>
                  <a:srgbClr val="ff9900"/>
                </a:solidFill>
                <a:uFillTx/>
                <a:latin typeface="Tahoma"/>
              </a:rPr>
              <a:t>su reabsorción tubular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00"/>
                </a:solidFill>
                <a:latin typeface="Tahoma"/>
              </a:rPr>
              <a:t>Los túbulos proximales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suelen reabsorber sólo el 25% del Mg filtrado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9900"/>
                </a:solidFill>
                <a:latin typeface="Tahoma"/>
              </a:rPr>
              <a:t>El Asa de Henle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, es el lugar donde reabsorbe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  <a:ea typeface="Tahoma"/>
              </a:rPr>
              <a:t>&gt;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4076"/>
                </a:solidFill>
                <a:latin typeface="Tahoma"/>
                <a:ea typeface="Tahoma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  <a:ea typeface="Tahoma"/>
              </a:rPr>
              <a:t>en la que se recupera alrededor del 65% del Mg    filtrado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ahoma"/>
                <a:ea typeface="Tahoma"/>
              </a:rPr>
              <a:t>En los túbulos distales y colectores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  <a:ea typeface="Tahoma"/>
              </a:rPr>
              <a:t> se reabsorben &lt; del 5%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4076"/>
                </a:solidFill>
                <a:latin typeface="Tahoma"/>
                <a:ea typeface="Tahoma"/>
              </a:rPr>
              <a:t>(No se conocen con exactitud los mecanismos que regulan la excreción de Mg.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S23283-035-f017a"/>
          <p:cNvPicPr/>
          <p:nvPr/>
        </p:nvPicPr>
        <p:blipFill>
          <a:blip r:embed="rId1"/>
          <a:stretch/>
        </p:blipFill>
        <p:spPr>
          <a:xfrm>
            <a:off x="2484360" y="333360"/>
            <a:ext cx="4343400" cy="5321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250920" y="5805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4000" spc="-1" strike="noStrike" u="sng">
                <a:solidFill>
                  <a:srgbClr val="ff0000"/>
                </a:solidFill>
                <a:uFillTx/>
                <a:latin typeface="Tahoma"/>
              </a:rPr>
              <a:t>magnesio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por la nefrona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S23283-035-f017b"/>
          <p:cNvPicPr/>
          <p:nvPr/>
        </p:nvPicPr>
        <p:blipFill>
          <a:blip r:embed="rId1"/>
          <a:stretch/>
        </p:blipFill>
        <p:spPr>
          <a:xfrm>
            <a:off x="914400" y="235080"/>
            <a:ext cx="8229600" cy="5354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08000" y="5877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4000" spc="-1" strike="noStrike" u="sng">
                <a:solidFill>
                  <a:srgbClr val="ff0000"/>
                </a:solidFill>
                <a:uFillTx/>
                <a:latin typeface="Tahoma"/>
              </a:rPr>
              <a:t>magnesio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 por el túbulo proximal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S23283-035-f017c"/>
          <p:cNvPicPr/>
          <p:nvPr/>
        </p:nvPicPr>
        <p:blipFill>
          <a:blip r:embed="rId1"/>
          <a:stretch/>
        </p:blipFill>
        <p:spPr>
          <a:xfrm>
            <a:off x="1763640" y="549360"/>
            <a:ext cx="5448240" cy="51562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108000" y="59500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Manejo de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Tahoma"/>
              </a:rPr>
              <a:t>magnesio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por la rama ascendente del asa de Henl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1"/>
          <p:cNvPicPr/>
          <p:nvPr/>
        </p:nvPicPr>
        <p:blipFill>
          <a:blip r:embed="rId1"/>
          <a:stretch/>
        </p:blipFill>
        <p:spPr>
          <a:xfrm>
            <a:off x="395280" y="19080"/>
            <a:ext cx="8447040" cy="68389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6640560" y="63025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6226200" y="5762520"/>
            <a:ext cx="223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gency FB"/>
              </a:rPr>
              <a:t>Gracias….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ando fallan o no actúan adecuadamente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estos dos mecanismos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ede producirse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cambios importantes de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la excreción de Na y Agua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ando esto sucede entra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los mecanismos sistémicos de retroacción</a:t>
            </a:r>
            <a:r>
              <a:rPr b="0" i="1" lang="es-ES" sz="3200" spc="-1" strike="noStrike">
                <a:solidFill>
                  <a:srgbClr val="6a4076"/>
                </a:solidFill>
                <a:latin typeface="Tahoma"/>
              </a:rPr>
              <a:t>, como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  *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os cambios de P/A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o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 *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os hormonales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que finalmente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equilibran</a:t>
            </a: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la excreción de Na </a:t>
            </a:r>
            <a:r>
              <a:rPr b="0" i="1" lang="es-ES" sz="3200" spc="-1" strike="noStrike">
                <a:solidFill>
                  <a:srgbClr val="003399"/>
                </a:solidFill>
                <a:latin typeface="Tahoma"/>
              </a:rPr>
              <a:t>a</a:t>
            </a:r>
            <a:r>
              <a:rPr b="1" i="1" lang="es-ES" sz="3200" spc="-1" strike="noStrike">
                <a:solidFill>
                  <a:srgbClr val="003399"/>
                </a:solidFill>
                <a:latin typeface="Tahoma"/>
              </a:rPr>
              <a:t> los aportes de éste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000" y="4125960"/>
            <a:ext cx="7792920" cy="17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*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IMPORTANCIA DE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“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A NATRIURESIS POR PRESION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” 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6a4076"/>
                </a:solidFill>
                <a:latin typeface="Tahoma"/>
              </a:rPr>
              <a:t>Y DE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“</a:t>
            </a:r>
            <a:r>
              <a:rPr b="1" i="1" lang="es-ES" sz="3200" spc="-1" strike="noStrike" u="sng">
                <a:solidFill>
                  <a:srgbClr val="6a4076"/>
                </a:solidFill>
                <a:uFillTx/>
                <a:latin typeface="Tahoma"/>
              </a:rPr>
              <a:t>LA DIURESIS POR PRESIÓN</a:t>
            </a:r>
            <a:r>
              <a:rPr b="1" i="1" lang="es-ES" sz="3200" spc="-1" strike="noStrike">
                <a:solidFill>
                  <a:srgbClr val="6a4076"/>
                </a:solidFill>
                <a:latin typeface="Tahoma"/>
              </a:rPr>
              <a:t>”</a:t>
            </a:r>
            <a:r>
              <a:rPr b="1" lang="es-ES" sz="3200" spc="-1" strike="noStrike">
                <a:solidFill>
                  <a:srgbClr val="6a4076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EN EL MANTENIMIENTO DEL EQUILIBRIO DE Na Y DE </a:t>
            </a:r>
            <a:br>
              <a:rPr sz="3200"/>
            </a:br>
            <a:r>
              <a:rPr b="0" lang="es-ES" sz="3200" spc="-1" strike="noStrike">
                <a:solidFill>
                  <a:srgbClr val="003399"/>
                </a:solidFill>
                <a:latin typeface="Tahoma"/>
              </a:rPr>
              <a:t>LOS LÍQUIDOS CORPORALES</a:t>
            </a:r>
            <a:r>
              <a:rPr b="0" lang="es-ES" sz="28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6a407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6:20:44Z</dcterms:created>
  <dc:creator>DR. MIGUEL A. GARCÌA G.</dc:creator>
  <dc:description/>
  <dc:language>en-US</dc:language>
  <cp:lastModifiedBy>Familia Garcia</cp:lastModifiedBy>
  <dcterms:modified xsi:type="dcterms:W3CDTF">2008-08-28T04:00:50Z</dcterms:modified>
  <cp:revision>189</cp:revision>
  <dc:subject/>
  <dc:title>INTEGRACIÓN DE LOS MECANISMOS RENALES PARA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